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8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2.png" ContentType="image/png"/>
  <Override PartName="/ppt/media/image31.jpeg" ContentType="image/jpeg"/>
  <Override PartName="/ppt/media/image30.png" ContentType="image/png"/>
  <Override PartName="/ppt/media/image42.png" ContentType="image/png"/>
  <Override PartName="/ppt/media/image43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437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AB75-E2F1-474C-B53B-C53C44A8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B8A5-B805-488A-862B-3236737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2965-C702-4BD5-872A-1B7076D67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376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824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7928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376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824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E82-9CD7-436E-8E29-1945220B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2B56D-1CAC-4C83-9CA1-82061659A44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EC8A3-11D1-481A-83D8-AE462E1F14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C80C2-DCAD-4B0B-B32E-4362157692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E968FE-A45C-4758-A865-DC59A5EB2D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355AFA-0BAA-4DD1-9286-1E82EBCAEE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00440" y="99720"/>
            <a:ext cx="45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100B60-6E96-4DFE-A99C-C280AD08C3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1006B-DD20-472E-81A2-A60E69246F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5341-9E1E-4798-8C4C-85AD7934A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7BC69B-CD7C-44F6-92C5-F8C6393F05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5EBEB-4197-449F-BC70-A42659FDDB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B4E92-D2B5-4B1A-9CE7-39563C7B13A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1F2FE5-09F0-4D0D-A631-4194BE002B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376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6824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928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376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6824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111E6-96E1-4697-990A-B3120D35651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CF3819-0433-43EC-AEBD-193D39116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DA18F7-DFC1-42CA-B9B6-8856819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D5ADB1-6610-49C8-A269-8F2F7F58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6C3C4-4F8F-40AD-B995-0A01C527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456D8A-6A6C-4E05-9ECF-B38FBEC7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B90B-F919-4598-B864-ABC728FB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600440" y="99720"/>
            <a:ext cx="45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750478-19A6-48D2-BD5E-5BDACF5A6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279B68-2273-40A5-9804-A32D0D078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25F8DD-E55B-44DC-8323-B0B5C102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5204A4-DF18-4D38-A37D-61B5E8E0C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25D27-B27E-4089-85D5-7AFD050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939917-5D77-4067-9BF1-80992162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17376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68240" y="123660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7928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17376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68240" y="3924360"/>
            <a:ext cx="285156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DBE713-94BA-467D-99BD-5773D754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3E48F-5414-4100-85C0-8964892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8CE-800D-429D-98FE-5D6C17B8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00440" y="99720"/>
            <a:ext cx="4500720" cy="429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3B03-2CA1-4B67-A31D-7B0D02EF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425-32E3-48D6-B207-3152E260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17440" y="392436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3647-6312-4713-A552-D1F8B10EB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440" y="1236600"/>
            <a:ext cx="43218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924360"/>
            <a:ext cx="885672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1AB8-E39C-4BA3-9D8D-061D9B0E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resentation_head22"/>
          <p:cNvPicPr/>
          <p:nvPr/>
        </p:nvPicPr>
        <p:blipFill>
          <a:blip r:embed="rId2"/>
          <a:srcRect l="40833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9720"/>
            <a:ext cx="894888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48000" y="6481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044B-3CE9-41DD-BFB9-FB1BE97A7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presentation_head2 копи"/>
          <p:cNvPicPr/>
          <p:nvPr/>
        </p:nvPicPr>
        <p:blipFill>
          <a:blip r:embed="rId2"/>
          <a:srcRect l="52502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00440" y="99720"/>
            <a:ext cx="450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B805-20C0-464E-9536-840BF9678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d6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84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85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  <p:sp>
          <p:nvSpPr>
            <p:cNvPr id="86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7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sp>
          <p:nvSpPr>
            <p:cNvPr id="88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1700" spc="-1" strike="noStrike">
                <a:solidFill>
                  <a:srgbClr val="ff0000"/>
                </a:solidFill>
                <a:latin typeface="Arial"/>
              </a:endParaRPr>
            </a:p>
          </p:txBody>
        </p:sp>
        <p:grpSp>
          <p:nvGrpSpPr>
            <p:cNvPr id="89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90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1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2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3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i="1" lang="en-US" sz="1700" spc="-1" strike="noStrike">
                  <a:solidFill>
                    <a:srgbClr val="ff0000"/>
                  </a:solidFill>
                  <a:latin typeface="Arial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5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6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7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ECA-BFC3-4C95-BC35-965B42C24DC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5960" y="1843200"/>
            <a:ext cx="784836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3948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Целевая программа Калининградской области</a:t>
            </a:r>
            <a:br>
              <a:rPr sz="2200"/>
            </a:br>
            <a:br>
              <a:rPr sz="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«Модернизация здравоохранения Калининградской</a:t>
            </a:r>
            <a:br>
              <a:rPr sz="2200"/>
            </a:br>
            <a:br>
              <a:rPr sz="8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области на 2011 - 2012 годы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191120" y="4952880"/>
            <a:ext cx="44956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инистр А.Б. Выговск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545240" y="228600"/>
            <a:ext cx="684360" cy="838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52720" y="630864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71f1f"/>
                </a:solidFill>
                <a:latin typeface="Tahoma"/>
              </a:rPr>
              <a:t>29.06.2011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228600"/>
            <a:ext cx="60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db5353"/>
                </a:solidFill>
                <a:latin typeface="Tahoma"/>
              </a:rPr>
              <a:t>МИНИСТЕРСТВО ЗДРАВООХРАНЕНИЯ КАЛИНИНГРАДСКОЙ ОБЛАСТИ</a:t>
            </a: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320" y="3429000"/>
            <a:ext cx="70102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676a55"/>
                </a:solidFill>
                <a:latin typeface="Arial"/>
              </a:rPr>
              <a:t>(</a:t>
            </a:r>
            <a:r>
              <a:rPr b="1" i="1" lang="ru-RU" sz="1700" spc="-1" strike="noStrike">
                <a:solidFill>
                  <a:srgbClr val="676a55"/>
                </a:solidFill>
                <a:latin typeface="Arial"/>
              </a:rPr>
              <a:t>постановление Правительства Калининградской области от 29 марта 2011 года № 218)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Rectangle 4" descr=""/>
          <p:cNvPicPr/>
          <p:nvPr/>
        </p:nvPicPr>
        <p:blipFill>
          <a:blip r:embed="rId1"/>
          <a:stretch/>
        </p:blipFill>
        <p:spPr>
          <a:xfrm>
            <a:off x="228600" y="289080"/>
            <a:ext cx="990720" cy="8715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79280" y="1676520"/>
            <a:ext cx="8659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47640" indent="-380880">
              <a:lnSpc>
                <a:spcPct val="100000"/>
              </a:lnSpc>
              <a:spcBef>
                <a:spcPts val="49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Капитальный ремонт 1-го этажа лечебного корпуса </a:t>
            </a:r>
            <a:r>
              <a:rPr b="1" lang="ru-RU" sz="2000" spc="-1" strike="noStrike">
                <a:solidFill>
                  <a:srgbClr val="676a55"/>
                </a:solidFill>
                <a:latin typeface="Arial"/>
              </a:rPr>
              <a:t> МУЗ "Славская центральная районная больница</a:t>
            </a: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" с начальной ценой контракта 1 506 256,0 рублей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647640" indent="-380880">
              <a:lnSpc>
                <a:spcPct val="100000"/>
              </a:lnSpc>
              <a:spcBef>
                <a:spcPts val="24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lvl="1" marL="647640" indent="-380880">
              <a:lnSpc>
                <a:spcPct val="100000"/>
              </a:lnSpc>
              <a:spcBef>
                <a:spcPts val="49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Капитальный ремонт лаборатории микробиологических исследований </a:t>
            </a:r>
            <a:r>
              <a:rPr b="1" lang="ru-RU" sz="2000" spc="-1" strike="noStrike">
                <a:solidFill>
                  <a:srgbClr val="676a55"/>
                </a:solidFill>
                <a:latin typeface="Arial"/>
              </a:rPr>
              <a:t> МУЗ "Черняховская центральная районная больница"</a:t>
            </a: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 с начальной ценой контракта 1 751 957,0 рублей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lvl="1" marL="647640" indent="-380880">
              <a:lnSpc>
                <a:spcPct val="100000"/>
              </a:lnSpc>
              <a:spcBef>
                <a:spcPts val="24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lvl="1" marL="647640" indent="-380880">
              <a:lnSpc>
                <a:spcPct val="100000"/>
              </a:lnSpc>
              <a:spcBef>
                <a:spcPts val="49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Капитальный ремонт помещения ФАПа пос. Храброво Васильково </a:t>
            </a:r>
            <a:r>
              <a:rPr b="1" lang="ru-RU" sz="2000" spc="-1" strike="noStrike">
                <a:solidFill>
                  <a:srgbClr val="676a55"/>
                </a:solidFill>
                <a:latin typeface="Arial"/>
              </a:rPr>
              <a:t>МАУЗ  "Гурьевская  центральная районная больница" муниципального образования "Гурьевский район"  Калининградской области с  начальной ценой контракта </a:t>
            </a:r>
            <a:r>
              <a:rPr b="0" lang="ru-RU" sz="2000" spc="-1" strike="noStrike">
                <a:solidFill>
                  <a:srgbClr val="676a55"/>
                </a:solidFill>
                <a:latin typeface="Arial"/>
              </a:rPr>
              <a:t>1 123 117,55 рублей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457200" y="152280"/>
            <a:ext cx="8686800" cy="79236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еречень объектов, по которым не состоялся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аукцион на проведение капитального ремонт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3172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Rectangle 4" descr=""/>
          <p:cNvPicPr/>
          <p:nvPr/>
        </p:nvPicPr>
        <p:blipFill>
          <a:blip r:embed="rId1"/>
          <a:stretch/>
        </p:blipFill>
        <p:spPr>
          <a:xfrm>
            <a:off x="228600" y="289080"/>
            <a:ext cx="990720" cy="8715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09480" y="1828800"/>
            <a:ext cx="8001000" cy="32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79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2800" spc="-1" strike="noStrike">
                <a:solidFill>
                  <a:srgbClr val="97192e"/>
                </a:solidFill>
                <a:latin typeface="Arial"/>
              </a:rPr>
              <a:t>Единственное учреждение здравоохранения, не подавшее заявку  на выполнение работ по капитальному ремонту,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57120" indent="-7920" algn="ctr">
              <a:lnSpc>
                <a:spcPct val="80000"/>
              </a:lnSpc>
              <a:spcBef>
                <a:spcPts val="2001"/>
              </a:spcBef>
              <a:buSzPct val="102872"/>
              <a:buBlip>
                <a:blip r:embed="rId2"/>
              </a:buBlip>
              <a:tabLst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3200" spc="-1" strike="noStrike">
                <a:solidFill>
                  <a:srgbClr val="97192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97192e"/>
                </a:solidFill>
                <a:latin typeface="Arial"/>
              </a:rPr>
              <a:t>МУЗ «Больница п. Янтарный»</a:t>
            </a:r>
            <a:endParaRPr b="1" i="1" lang="en-US" sz="3200" spc="-1" strike="noStrike">
              <a:solidFill>
                <a:srgbClr val="ff0000"/>
              </a:solidFill>
              <a:latin typeface="Arial"/>
            </a:endParaRPr>
          </a:p>
          <a:p>
            <a:pPr marL="357120" indent="-79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357120" indent="-7920"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1" lang="en-US" sz="2800" spc="-1" strike="noStrike">
                <a:solidFill>
                  <a:srgbClr val="97192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97192e"/>
                </a:solidFill>
                <a:latin typeface="Arial"/>
              </a:rPr>
              <a:t>(лимит финансирования 6414,3 тыс.руб.)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63172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Оснащение медицинским оборудованием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550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е 3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16" name="Rectangle 4" descr=""/>
          <p:cNvPicPr/>
          <p:nvPr/>
        </p:nvPicPr>
        <p:blipFill>
          <a:blip r:embed="rId1"/>
          <a:stretch/>
        </p:blipFill>
        <p:spPr>
          <a:xfrm>
            <a:off x="8086680" y="5638680"/>
            <a:ext cx="744480" cy="8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1103400" cy="11034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08000" y="1407960"/>
            <a:ext cx="903600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остоянию на 28.06.2011 года Министерством здравоохранения подготовлены и направлены в АГРСБ заявки на организацию и проведение открытых аукционов в электронной форме по следующим позициям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втоматический рефкератометр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удиометр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есконтактный компьютерный тонометр (пневмотонометр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мпьютерный томограф 16 –ти срезовый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аммограф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Цифровые флюорографические аппараты (2 комплекта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геновские аппараты на 3 рабочих места (9 комплектов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ентгеновский передвижной аппарат типа С-дуга (3 комплекта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63172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79280" y="2209680"/>
            <a:ext cx="766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Внедрение современных информационных систем в здравоохранении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Задача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22" name="Rectangle 4" descr=""/>
          <p:cNvPicPr/>
          <p:nvPr/>
        </p:nvPicPr>
        <p:blipFill>
          <a:blip r:embed="rId1"/>
          <a:stretch/>
        </p:blipFill>
        <p:spPr>
          <a:xfrm>
            <a:off x="7543800" y="5373720"/>
            <a:ext cx="1415880" cy="12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23" name="AutoShape 2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4" name="AutoShape 3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25" name="AutoShape 29"/>
          <p:cNvSpPr/>
          <p:nvPr/>
        </p:nvSpPr>
        <p:spPr>
          <a:xfrm>
            <a:off x="324000" y="189000"/>
            <a:ext cx="8496000" cy="936360"/>
          </a:xfrm>
          <a:prstGeom prst="roundRect">
            <a:avLst>
              <a:gd name="adj" fmla="val 10699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Объем финансирования мероприятий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в 2011 – 2012 годах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(млн.руб.)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24000" y="1906560"/>
          <a:ext cx="8515080" cy="3049560"/>
        </p:xfrm>
        <a:graphic>
          <a:graphicData uri="http://schemas.openxmlformats.org/drawingml/2006/table">
            <a:tbl>
              <a:tblPr/>
              <a:tblGrid>
                <a:gridCol w="4047840"/>
                <a:gridCol w="1495440"/>
                <a:gridCol w="1536840"/>
                <a:gridCol w="1434960"/>
              </a:tblGrid>
              <a:tr h="68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сего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 т.ч. за счет средств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ФФОМС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бластного бюджета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1130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5400"/>
                          </a:solidFill>
                          <a:latin typeface="Arial"/>
                        </a:rPr>
                        <a:t>1. Внедрение современных информационных технологий в здравоохранение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5400"/>
                          </a:solidFill>
                          <a:latin typeface="Arial"/>
                        </a:rPr>
                        <a:t>195,1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5400"/>
                          </a:solidFill>
                          <a:latin typeface="Arial"/>
                        </a:rPr>
                        <a:t>142,4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2a5400"/>
                          </a:solidFill>
                          <a:latin typeface="Arial"/>
                        </a:rPr>
                        <a:t>52,7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71600" y="189000"/>
            <a:ext cx="644400" cy="792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5334120" y="5440320"/>
            <a:ext cx="1295280" cy="11224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3124080" y="5867280"/>
            <a:ext cx="838440" cy="7257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4114800" y="5638680"/>
            <a:ext cx="1066680" cy="9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121"/>
          <p:cNvSpPr/>
          <p:nvPr/>
        </p:nvSpPr>
        <p:spPr>
          <a:xfrm rot="16200000">
            <a:off x="3995640" y="1655280"/>
            <a:ext cx="5629320" cy="4470480"/>
          </a:xfrm>
          <a:prstGeom prst="rect">
            <a:avLst/>
          </a:prstGeom>
          <a:gradFill rotWithShape="0">
            <a:gsLst>
              <a:gs pos="0">
                <a:srgbClr val="f7d9d9">
                  <a:alpha val="80392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Oval 29"/>
          <p:cNvSpPr/>
          <p:nvPr/>
        </p:nvSpPr>
        <p:spPr>
          <a:xfrm>
            <a:off x="138240" y="1141560"/>
            <a:ext cx="2376360" cy="753840"/>
          </a:xfrm>
          <a:prstGeom prst="roundRect">
            <a:avLst>
              <a:gd name="adj" fmla="val 9440"/>
            </a:avLst>
          </a:prstGeom>
          <a:gradFill rotWithShape="0">
            <a:gsLst>
              <a:gs pos="0">
                <a:srgbClr val="9fbf9f"/>
              </a:gs>
              <a:gs pos="50000">
                <a:srgbClr val="dbe7db"/>
              </a:gs>
              <a:gs pos="100000">
                <a:srgbClr val="9fbf9f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160" rIns="36000" tIns="36000" bIns="36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Заместитель руководителя высшего органа исполнительной власти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4" name="Oval 29"/>
          <p:cNvSpPr/>
          <p:nvPr/>
        </p:nvSpPr>
        <p:spPr>
          <a:xfrm>
            <a:off x="138240" y="2101680"/>
            <a:ext cx="2376360" cy="949320"/>
          </a:xfrm>
          <a:prstGeom prst="roundRect">
            <a:avLst>
              <a:gd name="adj" fmla="val 9440"/>
            </a:avLst>
          </a:prstGeom>
          <a:gradFill rotWithShape="0">
            <a:gsLst>
              <a:gs pos="0">
                <a:srgbClr val="9fbf9f"/>
              </a:gs>
              <a:gs pos="50000">
                <a:srgbClr val="dbe7db"/>
              </a:gs>
              <a:gs pos="100000">
                <a:srgbClr val="9fbf9f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16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Комиссия по созданию регионального фрагмента Системы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Oval 29"/>
          <p:cNvSpPr/>
          <p:nvPr/>
        </p:nvSpPr>
        <p:spPr>
          <a:xfrm>
            <a:off x="152280" y="3276720"/>
            <a:ext cx="2376720" cy="1981080"/>
          </a:xfrm>
          <a:prstGeom prst="roundRect">
            <a:avLst>
              <a:gd name="adj" fmla="val 9440"/>
            </a:avLst>
          </a:prstGeom>
          <a:gradFill rotWithShape="0">
            <a:gsLst>
              <a:gs pos="0">
                <a:srgbClr val="9fbf9f"/>
              </a:gs>
              <a:gs pos="50000">
                <a:srgbClr val="dbe7db"/>
              </a:gs>
              <a:gs pos="100000">
                <a:srgbClr val="9fbf9f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16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Главный конструктор 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МЗ КО)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Oval 29"/>
          <p:cNvSpPr/>
          <p:nvPr/>
        </p:nvSpPr>
        <p:spPr>
          <a:xfrm>
            <a:off x="138240" y="5538960"/>
            <a:ext cx="2376360" cy="1008000"/>
          </a:xfrm>
          <a:prstGeom prst="roundRect">
            <a:avLst>
              <a:gd name="adj" fmla="val 9440"/>
            </a:avLst>
          </a:prstGeom>
          <a:gradFill rotWithShape="0">
            <a:gsLst>
              <a:gs pos="0">
                <a:srgbClr val="9fbf9f"/>
              </a:gs>
              <a:gs pos="50000">
                <a:srgbClr val="dbe7db"/>
              </a:gs>
              <a:gs pos="100000">
                <a:srgbClr val="9fbf9f"/>
              </a:gs>
            </a:gsLst>
            <a:lin ang="5400000"/>
          </a:gradFill>
          <a:ln w="19080">
            <a:solidFill>
              <a:srgbClr val="808080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160" rIns="36000" tIns="3600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Учреждения здравоохранения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и иные участники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AutoShape 40"/>
          <p:cNvSpPr/>
          <p:nvPr/>
        </p:nvSpPr>
        <p:spPr>
          <a:xfrm rot="16200000">
            <a:off x="3155760" y="558720"/>
            <a:ext cx="812880" cy="1942920"/>
          </a:xfrm>
          <a:prstGeom prst="downArrow">
            <a:avLst>
              <a:gd name="adj1" fmla="val 88343"/>
              <a:gd name="adj2" fmla="val 27088"/>
            </a:avLst>
          </a:prstGeom>
          <a:solidFill>
            <a:srgbClr val="ffcc99">
              <a:alpha val="75000"/>
            </a:srgbClr>
          </a:solidFill>
          <a:ln w="9360">
            <a:solidFill>
              <a:srgbClr val="676a55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7880" bIns="11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Общая координация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 rot="16200000">
            <a:off x="3155760" y="1625400"/>
            <a:ext cx="812880" cy="1942920"/>
          </a:xfrm>
          <a:prstGeom prst="downArrow">
            <a:avLst>
              <a:gd name="adj1" fmla="val 80278"/>
              <a:gd name="adj2" fmla="val 24178"/>
            </a:avLst>
          </a:prstGeom>
          <a:solidFill>
            <a:srgbClr val="ffcc99">
              <a:alpha val="75000"/>
            </a:srgbClr>
          </a:solidFill>
          <a:ln w="9360">
            <a:solidFill>
              <a:srgbClr val="676a55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7880" bIns="11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Консультирование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9" name="AutoShape 44"/>
          <p:cNvSpPr/>
          <p:nvPr/>
        </p:nvSpPr>
        <p:spPr>
          <a:xfrm rot="16200000">
            <a:off x="2855880" y="3260520"/>
            <a:ext cx="1441440" cy="1943280"/>
          </a:xfrm>
          <a:prstGeom prst="downArrow">
            <a:avLst>
              <a:gd name="adj1" fmla="val 80722"/>
              <a:gd name="adj2" fmla="val 12951"/>
            </a:avLst>
          </a:prstGeom>
          <a:solidFill>
            <a:srgbClr val="ffcc99">
              <a:alpha val="75000"/>
            </a:srgbClr>
          </a:solidFill>
          <a:ln w="9360">
            <a:solidFill>
              <a:srgbClr val="676a55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7880" bIns="11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Согласование проектных и технических решений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координация и контроль исполнения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AutoShape 46"/>
          <p:cNvSpPr/>
          <p:nvPr/>
        </p:nvSpPr>
        <p:spPr>
          <a:xfrm rot="16200000">
            <a:off x="3024720" y="5076000"/>
            <a:ext cx="1074960" cy="1942920"/>
          </a:xfrm>
          <a:prstGeom prst="downArrow">
            <a:avLst>
              <a:gd name="adj1" fmla="val 88796"/>
              <a:gd name="adj2" fmla="val 27095"/>
            </a:avLst>
          </a:prstGeom>
          <a:solidFill>
            <a:srgbClr val="ffcc99">
              <a:alpha val="75000"/>
            </a:srgbClr>
          </a:solidFill>
          <a:ln w="9360">
            <a:solidFill>
              <a:srgbClr val="676a55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360" rIns="18360" tIns="47880" bIns="1116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отдельных работ</a:t>
            </a:r>
            <a:endParaRPr b="1" i="1" lang="en-US" sz="1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4660920" y="1387440"/>
            <a:ext cx="4357800" cy="6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Общая координация работ по созданию регионального фрагмента Системы на уровне субъекта РФ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4648320" y="2454120"/>
            <a:ext cx="4357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Согласование принимаемых решений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Координация взаимодействия участников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4746600" y="3581280"/>
            <a:ext cx="38638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тверждение проектной и технической документации на региональный фрагмент Системы и ее компоненты</a:t>
            </a:r>
            <a:r>
              <a:rPr b="1" i="1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График работ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Подготовка документации для проведение конкурсов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и контроль выполнения работ и поставки техники, подготовка отчетов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4660920" y="5946840"/>
            <a:ext cx="4357800" cy="2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0360" indent="-9036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Выполнение работ на уровне организаций</a:t>
            </a:r>
            <a:endParaRPr b="1" i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Line 116"/>
          <p:cNvSpPr/>
          <p:nvPr/>
        </p:nvSpPr>
        <p:spPr>
          <a:xfrm>
            <a:off x="4978440" y="2165400"/>
            <a:ext cx="4067280" cy="0"/>
          </a:xfrm>
          <a:prstGeom prst="line">
            <a:avLst/>
          </a:prstGeom>
          <a:ln w="9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6" name="Line 117"/>
          <p:cNvSpPr/>
          <p:nvPr/>
        </p:nvSpPr>
        <p:spPr>
          <a:xfrm>
            <a:off x="4952880" y="3124080"/>
            <a:ext cx="4067280" cy="0"/>
          </a:xfrm>
          <a:prstGeom prst="line">
            <a:avLst/>
          </a:prstGeom>
          <a:ln w="9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5021280" y="893880"/>
            <a:ext cx="259884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ые функции</a:t>
            </a: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2935440" y="893880"/>
            <a:ext cx="110304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Роль </a:t>
            </a: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252360" y="893880"/>
            <a:ext cx="1881360" cy="1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Участник </a:t>
            </a:r>
            <a:endParaRPr b="1" i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0" name="AutoShape 10"/>
          <p:cNvSpPr/>
          <p:nvPr/>
        </p:nvSpPr>
        <p:spPr>
          <a:xfrm>
            <a:off x="457200" y="152280"/>
            <a:ext cx="8686800" cy="7621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Организация создания регионального фрагмент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Системы в субъекте РФ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Line 119"/>
          <p:cNvSpPr/>
          <p:nvPr/>
        </p:nvSpPr>
        <p:spPr>
          <a:xfrm>
            <a:off x="4876920" y="5518080"/>
            <a:ext cx="4066920" cy="0"/>
          </a:xfrm>
          <a:prstGeom prst="line">
            <a:avLst/>
          </a:prstGeom>
          <a:ln w="9360">
            <a:solidFill>
              <a:srgbClr val="00c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4"/>
          <p:cNvSpPr/>
          <p:nvPr/>
        </p:nvSpPr>
        <p:spPr>
          <a:xfrm>
            <a:off x="892080" y="1184400"/>
            <a:ext cx="2451240" cy="3528720"/>
          </a:xfrm>
          <a:prstGeom prst="rect">
            <a:avLst/>
          </a:prstGeom>
          <a:solidFill>
            <a:srgbClr val="dadede"/>
          </a:solidFill>
          <a:ln w="936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AutoShape 104"/>
          <p:cNvSpPr/>
          <p:nvPr/>
        </p:nvSpPr>
        <p:spPr>
          <a:xfrm>
            <a:off x="900000" y="1382760"/>
            <a:ext cx="2822760" cy="3184560"/>
          </a:xfrm>
          <a:custGeom>
            <a:avLst/>
            <a:gdLst>
              <a:gd name="textAreaLeft" fmla="*/ 24480 w 2822760"/>
              <a:gd name="textAreaRight" fmla="*/ 2798280 w 2822760"/>
              <a:gd name="textAreaTop" fmla="*/ 24480 h 3184560"/>
              <a:gd name="textAreaBottom" fmla="*/ 3160080 h 3184560"/>
            </a:gdLst>
            <a:ahLst/>
            <a:rect l="textAreaLeft" t="textAreaTop" r="textAreaRight" b="textAreaBottom"/>
            <a:pathLst>
              <a:path w="21600" h="24368">
                <a:moveTo>
                  <a:pt x="646" y="0"/>
                </a:moveTo>
                <a:arcTo wR="646" hR="646" stAng="16200000" swAng="-5400000"/>
                <a:lnTo>
                  <a:pt x="0" y="23722"/>
                </a:lnTo>
                <a:arcTo wR="646" hR="646" stAng="10800000" swAng="-5400000"/>
                <a:lnTo>
                  <a:pt x="20954" y="24368"/>
                </a:lnTo>
                <a:arcTo wR="646" hR="646" stAng="5400000" swAng="-5400000"/>
                <a:lnTo>
                  <a:pt x="21600" y="646"/>
                </a:lnTo>
                <a:arcTo wR="646" hR="646" stAng="0" swAng="-5400000"/>
                <a:close/>
              </a:path>
            </a:pathLst>
          </a:custGeom>
          <a:gradFill rotWithShape="0">
            <a:gsLst>
              <a:gs pos="0">
                <a:srgbClr val="dbe7db"/>
              </a:gs>
              <a:gs pos="50000">
                <a:srgbClr val="f2fdff"/>
              </a:gs>
              <a:gs pos="100000">
                <a:srgbClr val="dbe7db"/>
              </a:gs>
            </a:gsLst>
            <a:lin ang="2700000"/>
          </a:gradFill>
          <a:ln w="9360">
            <a:solidFill>
              <a:srgbClr val="00c600"/>
            </a:solidFill>
            <a:miter/>
          </a:ln>
          <a:effectLst>
            <a:outerShdw dist="38183" dir="2700000" blurRad="0" rotWithShape="0">
              <a:srgbClr val="db535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440" rIns="3672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Picture 80" descr="база данных"/>
          <p:cNvPicPr/>
          <p:nvPr/>
        </p:nvPicPr>
        <p:blipFill>
          <a:blip r:embed="rId1"/>
          <a:stretch/>
        </p:blipFill>
        <p:spPr>
          <a:xfrm>
            <a:off x="1670040" y="1809720"/>
            <a:ext cx="1633680" cy="65412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14"/>
          <p:cNvSpPr/>
          <p:nvPr/>
        </p:nvSpPr>
        <p:spPr>
          <a:xfrm rot="16200000">
            <a:off x="-885600" y="2569680"/>
            <a:ext cx="2359080" cy="403200"/>
          </a:xfrm>
          <a:prstGeom prst="rect">
            <a:avLst/>
          </a:prstGeom>
          <a:solidFill>
            <a:srgbClr val="b8d0b8"/>
          </a:solidFill>
          <a:ln w="9360">
            <a:solidFill>
              <a:srgbClr val="00c600"/>
            </a:solidFill>
            <a:miter/>
          </a:ln>
          <a:effectLst>
            <a:outerShdw dist="38183" dir="2700000" blurRad="0" rotWithShape="0">
              <a:srgbClr val="db535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 Box 41"/>
          <p:cNvSpPr/>
          <p:nvPr/>
        </p:nvSpPr>
        <p:spPr>
          <a:xfrm rot="16200000">
            <a:off x="-698760" y="2615040"/>
            <a:ext cx="2012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Инфраструктура электронного правительства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8" name="Line 109"/>
          <p:cNvSpPr/>
          <p:nvPr/>
        </p:nvSpPr>
        <p:spPr>
          <a:xfrm>
            <a:off x="487440" y="2540160"/>
            <a:ext cx="374400" cy="9360"/>
          </a:xfrm>
          <a:prstGeom prst="line">
            <a:avLst/>
          </a:prstGeom>
          <a:ln w="12600">
            <a:solidFill>
              <a:srgbClr val="db53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9" name="Line 110"/>
          <p:cNvSpPr/>
          <p:nvPr/>
        </p:nvSpPr>
        <p:spPr>
          <a:xfrm flipV="1">
            <a:off x="487440" y="2933280"/>
            <a:ext cx="365040" cy="9720"/>
          </a:xfrm>
          <a:prstGeom prst="line">
            <a:avLst/>
          </a:prstGeom>
          <a:ln w="12600">
            <a:solidFill>
              <a:srgbClr val="db535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0" name="Freeform 112"/>
          <p:cNvSpPr/>
          <p:nvPr/>
        </p:nvSpPr>
        <p:spPr>
          <a:xfrm>
            <a:off x="1220760" y="2273400"/>
            <a:ext cx="485640" cy="387360"/>
          </a:xfrm>
          <a:prstGeom prst="pie">
            <a:avLst/>
          </a:prstGeom>
          <a:noFill/>
          <a:ln w="12600">
            <a:solidFill>
              <a:srgbClr val="db535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Text Box 41"/>
          <p:cNvSpPr/>
          <p:nvPr/>
        </p:nvSpPr>
        <p:spPr>
          <a:xfrm>
            <a:off x="1044720" y="1103400"/>
            <a:ext cx="920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ФЦОД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AutoShape 104"/>
          <p:cNvSpPr/>
          <p:nvPr/>
        </p:nvSpPr>
        <p:spPr>
          <a:xfrm>
            <a:off x="6680160" y="1509840"/>
            <a:ext cx="2198880" cy="2755800"/>
          </a:xfrm>
          <a:custGeom>
            <a:avLst/>
            <a:gdLst>
              <a:gd name="textAreaLeft" fmla="*/ 35640 w 2198880"/>
              <a:gd name="textAreaRight" fmla="*/ 2163240 w 2198880"/>
              <a:gd name="textAreaTop" fmla="*/ 35640 h 2755800"/>
              <a:gd name="textAreaBottom" fmla="*/ 2720160 h 2755800"/>
            </a:gdLst>
            <a:ahLst/>
            <a:rect l="textAreaLeft" t="textAreaTop" r="textAreaRight" b="textAreaBottom"/>
            <a:pathLst>
              <a:path w="21600" h="27070">
                <a:moveTo>
                  <a:pt x="1198" y="0"/>
                </a:moveTo>
                <a:arcTo wR="1198" hR="1198" stAng="16200000" swAng="-5400000"/>
                <a:lnTo>
                  <a:pt x="0" y="25872"/>
                </a:lnTo>
                <a:arcTo wR="1198" hR="1198" stAng="10800000" swAng="-5400000"/>
                <a:lnTo>
                  <a:pt x="20402" y="27070"/>
                </a:lnTo>
                <a:arcTo wR="1198" hR="1198" stAng="5400000" swAng="-5400000"/>
                <a:lnTo>
                  <a:pt x="21600" y="1198"/>
                </a:lnTo>
                <a:arcTo wR="1198" hR="1198" stAng="0" swAng="-5400000"/>
                <a:close/>
              </a:path>
            </a:pathLst>
          </a:custGeom>
          <a:gradFill rotWithShape="0">
            <a:gsLst>
              <a:gs pos="0">
                <a:srgbClr val="bdf7ff"/>
              </a:gs>
              <a:gs pos="50000">
                <a:srgbClr val="f2fdff"/>
              </a:gs>
              <a:gs pos="100000">
                <a:srgbClr val="bdf7ff"/>
              </a:gs>
            </a:gsLst>
            <a:lin ang="2700000"/>
          </a:gradFill>
          <a:ln w="9360">
            <a:solidFill>
              <a:srgbClr val="db5353"/>
            </a:solidFill>
            <a:miter/>
          </a:ln>
          <a:effectLst>
            <a:outerShdw dist="38183" dir="2700000" blurRad="0" rotWithShape="0">
              <a:srgbClr val="db535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73440" rIns="3672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AutoShape 104"/>
          <p:cNvSpPr/>
          <p:nvPr/>
        </p:nvSpPr>
        <p:spPr>
          <a:xfrm>
            <a:off x="6621480" y="1457280"/>
            <a:ext cx="2198520" cy="2754360"/>
          </a:xfrm>
          <a:custGeom>
            <a:avLst/>
            <a:gdLst>
              <a:gd name="textAreaLeft" fmla="*/ 35640 w 2198520"/>
              <a:gd name="textAreaRight" fmla="*/ 2162880 w 2198520"/>
              <a:gd name="textAreaTop" fmla="*/ 35640 h 2754360"/>
              <a:gd name="textAreaBottom" fmla="*/ 2718720 h 2754360"/>
            </a:gdLst>
            <a:ahLst/>
            <a:rect l="textAreaLeft" t="textAreaTop" r="textAreaRight" b="textAreaBottom"/>
            <a:pathLst>
              <a:path w="21600" h="27060">
                <a:moveTo>
                  <a:pt x="1198" y="0"/>
                </a:moveTo>
                <a:arcTo wR="1198" hR="1198" stAng="16200000" swAng="-5400000"/>
                <a:lnTo>
                  <a:pt x="0" y="25862"/>
                </a:lnTo>
                <a:arcTo wR="1198" hR="1198" stAng="10800000" swAng="-5400000"/>
                <a:lnTo>
                  <a:pt x="20402" y="27060"/>
                </a:lnTo>
                <a:arcTo wR="1198" hR="1198" stAng="5400000" swAng="-5400000"/>
                <a:lnTo>
                  <a:pt x="21600" y="1198"/>
                </a:lnTo>
                <a:arcTo wR="1198" hR="1198" stAng="0" swAng="-5400000"/>
                <a:close/>
              </a:path>
            </a:pathLst>
          </a:custGeom>
          <a:gradFill rotWithShape="0">
            <a:gsLst>
              <a:gs pos="0">
                <a:srgbClr val="bdf7ff"/>
              </a:gs>
              <a:gs pos="50000">
                <a:srgbClr val="f2fdff"/>
              </a:gs>
              <a:gs pos="100000">
                <a:srgbClr val="bdf7ff"/>
              </a:gs>
            </a:gsLst>
            <a:lin ang="2700000"/>
          </a:gradFill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440" rIns="3672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4" name="AutoShape 104"/>
          <p:cNvSpPr/>
          <p:nvPr/>
        </p:nvSpPr>
        <p:spPr>
          <a:xfrm>
            <a:off x="5135400" y="1403280"/>
            <a:ext cx="3625920" cy="2755800"/>
          </a:xfrm>
          <a:prstGeom prst="roundRect">
            <a:avLst>
              <a:gd name="adj" fmla="val 5546"/>
            </a:avLst>
          </a:prstGeom>
          <a:gradFill rotWithShape="0">
            <a:gsLst>
              <a:gs pos="0">
                <a:srgbClr val="dbe7db"/>
              </a:gs>
              <a:gs pos="50000">
                <a:srgbClr val="f2fdff"/>
              </a:gs>
              <a:gs pos="100000">
                <a:srgbClr val="dbe7db"/>
              </a:gs>
            </a:gsLst>
            <a:lin ang="2700000"/>
          </a:gra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440" rIns="36720" tIns="36720" bIns="367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Text Box 41"/>
          <p:cNvSpPr/>
          <p:nvPr/>
        </p:nvSpPr>
        <p:spPr>
          <a:xfrm>
            <a:off x="6926400" y="1135080"/>
            <a:ext cx="2033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8800"/>
                <a:tab algn="l" pos="2741760"/>
                <a:tab algn="l" pos="3657600"/>
                <a:tab algn="l" pos="4570560"/>
                <a:tab algn="l" pos="5486400"/>
                <a:tab algn="l" pos="6399360"/>
                <a:tab algn="l" pos="7315200"/>
                <a:tab algn="l" pos="8228160"/>
                <a:tab algn="l" pos="9144000"/>
                <a:tab algn="l" pos="10056960"/>
                <a:tab algn="l" pos="1033308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ЦОД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  <a:ea typeface="Arial"/>
              </a:rPr>
              <a:t>убъекта РФ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6" name="Picture 99" descr="база данных"/>
          <p:cNvPicPr/>
          <p:nvPr/>
        </p:nvPicPr>
        <p:blipFill>
          <a:blip r:embed="rId2"/>
          <a:stretch/>
        </p:blipFill>
        <p:spPr>
          <a:xfrm>
            <a:off x="6288120" y="1839960"/>
            <a:ext cx="1238040" cy="461880"/>
          </a:xfrm>
          <a:prstGeom prst="rect">
            <a:avLst/>
          </a:prstGeom>
          <a:ln w="0">
            <a:noFill/>
          </a:ln>
        </p:spPr>
      </p:pic>
      <p:sp>
        <p:nvSpPr>
          <p:cNvPr id="267" name="Rectangle 14"/>
          <p:cNvSpPr/>
          <p:nvPr/>
        </p:nvSpPr>
        <p:spPr>
          <a:xfrm>
            <a:off x="3440160" y="5450040"/>
            <a:ext cx="577800" cy="87444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7fbff"/>
              </a:gs>
            </a:gsLst>
            <a:lin ang="5400000"/>
          </a:gradFill>
          <a:ln w="9360">
            <a:solidFill>
              <a:srgbClr val="89b38c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8" name="Rectangle 189"/>
          <p:cNvSpPr/>
          <p:nvPr/>
        </p:nvSpPr>
        <p:spPr>
          <a:xfrm>
            <a:off x="3435480" y="6093000"/>
            <a:ext cx="64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ЛПУ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Rectangle 14"/>
          <p:cNvSpPr/>
          <p:nvPr/>
        </p:nvSpPr>
        <p:spPr>
          <a:xfrm>
            <a:off x="4800600" y="5440320"/>
            <a:ext cx="552600" cy="87480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7fbff"/>
              </a:gs>
            </a:gsLst>
            <a:lin ang="5400000"/>
          </a:gradFill>
          <a:ln w="9360">
            <a:solidFill>
              <a:srgbClr val="89b38c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Rectangle 14"/>
          <p:cNvSpPr/>
          <p:nvPr/>
        </p:nvSpPr>
        <p:spPr>
          <a:xfrm>
            <a:off x="6151680" y="5440320"/>
            <a:ext cx="587160" cy="87480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7fbff"/>
              </a:gs>
            </a:gsLst>
            <a:lin ang="5400000"/>
          </a:gradFill>
          <a:ln w="9360">
            <a:solidFill>
              <a:srgbClr val="89b38c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7521480" y="5440320"/>
            <a:ext cx="534960" cy="87480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7fbff"/>
              </a:gs>
            </a:gsLst>
            <a:lin ang="5400000"/>
          </a:gradFill>
          <a:ln w="9360">
            <a:solidFill>
              <a:srgbClr val="89b38c"/>
            </a:solidFill>
            <a:miter/>
          </a:ln>
          <a:effectLst>
            <a:outerShdw dist="38183" dir="2700000" blurRad="0" rotWithShape="0">
              <a:srgbClr val="f3c3c3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72" name="Picture 62" descr="note_book"/>
          <p:cNvPicPr/>
          <p:nvPr/>
        </p:nvPicPr>
        <p:blipFill>
          <a:blip r:embed="rId3"/>
          <a:stretch/>
        </p:blipFill>
        <p:spPr>
          <a:xfrm>
            <a:off x="3508200" y="5513400"/>
            <a:ext cx="398520" cy="3776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63" descr="note_book"/>
          <p:cNvPicPr/>
          <p:nvPr/>
        </p:nvPicPr>
        <p:blipFill>
          <a:blip r:embed="rId4"/>
          <a:stretch/>
        </p:blipFill>
        <p:spPr>
          <a:xfrm>
            <a:off x="6222960" y="5483160"/>
            <a:ext cx="398520" cy="37944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89"/>
          <p:cNvSpPr/>
          <p:nvPr/>
        </p:nvSpPr>
        <p:spPr>
          <a:xfrm>
            <a:off x="4734000" y="6033960"/>
            <a:ext cx="647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ЛПУ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5" name="Rectangle 189"/>
          <p:cNvSpPr/>
          <p:nvPr/>
        </p:nvSpPr>
        <p:spPr>
          <a:xfrm>
            <a:off x="6137280" y="596592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ОГВ/ ТФОМС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Rectangle 189"/>
          <p:cNvSpPr/>
          <p:nvPr/>
        </p:nvSpPr>
        <p:spPr>
          <a:xfrm>
            <a:off x="7473960" y="5946840"/>
            <a:ext cx="647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ОГВ/ ТФОМС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Rectangle 14"/>
          <p:cNvSpPr/>
          <p:nvPr/>
        </p:nvSpPr>
        <p:spPr>
          <a:xfrm>
            <a:off x="4859280" y="5532480"/>
            <a:ext cx="419040" cy="228600"/>
          </a:xfrm>
          <a:prstGeom prst="rect">
            <a:avLst/>
          </a:prstGeom>
          <a:solidFill>
            <a:srgbClr val="eaebde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Rectangle 189"/>
          <p:cNvSpPr/>
          <p:nvPr/>
        </p:nvSpPr>
        <p:spPr>
          <a:xfrm>
            <a:off x="4906800" y="5567400"/>
            <a:ext cx="30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МИС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Rectangle 14"/>
          <p:cNvSpPr/>
          <p:nvPr/>
        </p:nvSpPr>
        <p:spPr>
          <a:xfrm>
            <a:off x="7580160" y="5504040"/>
            <a:ext cx="420840" cy="226800"/>
          </a:xfrm>
          <a:prstGeom prst="rect">
            <a:avLst/>
          </a:prstGeom>
          <a:solidFill>
            <a:srgbClr val="eaebde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0" name="Rectangle 189"/>
          <p:cNvSpPr/>
          <p:nvPr/>
        </p:nvSpPr>
        <p:spPr>
          <a:xfrm>
            <a:off x="7628040" y="5548320"/>
            <a:ext cx="307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ИС</a:t>
            </a:r>
            <a:endParaRPr b="1" i="1" lang="en-US" sz="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Freeform 117"/>
          <p:cNvSpPr/>
          <p:nvPr/>
        </p:nvSpPr>
        <p:spPr>
          <a:xfrm>
            <a:off x="2176560" y="1039680"/>
            <a:ext cx="4591080" cy="819360"/>
          </a:xfrm>
          <a:prstGeom prst="pie">
            <a:avLst/>
          </a:prstGeom>
          <a:noFill/>
          <a:ln w="12600">
            <a:solidFill>
              <a:srgbClr val="db535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Прямая соединительная линия 2"/>
          <p:cNvSpPr/>
          <p:nvPr/>
        </p:nvSpPr>
        <p:spPr>
          <a:xfrm>
            <a:off x="2133720" y="1025640"/>
            <a:ext cx="0" cy="695160"/>
          </a:xfrm>
          <a:prstGeom prst="line">
            <a:avLst/>
          </a:prstGeom>
          <a:ln w="9360">
            <a:solidFill>
              <a:srgbClr val="676a5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1057320" y="2660760"/>
            <a:ext cx="2286000" cy="1274760"/>
          </a:xfrm>
          <a:prstGeom prst="rect">
            <a:avLst/>
          </a:prstGeom>
          <a:solidFill>
            <a:srgbClr val="b8d0b8"/>
          </a:solidFill>
          <a:ln w="9360">
            <a:solidFill>
              <a:srgbClr val="db53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1146240" y="2747880"/>
            <a:ext cx="21794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Федеральные подсистем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ая регистратура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ованная ЭМК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Телемедицина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Бухгалтерские и кадровые ИС для учреждений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>
            <a:off x="5567400" y="2639880"/>
            <a:ext cx="3076560" cy="1274760"/>
          </a:xfrm>
          <a:prstGeom prst="rect">
            <a:avLst/>
          </a:prstGeom>
          <a:solidFill>
            <a:srgbClr val="b8d0b8"/>
          </a:solidFill>
          <a:ln w="93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5773680" y="2728800"/>
            <a:ext cx="283068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87480" indent="-8748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ьные подсистем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ИС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Электронный рецепт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ониторинг состояния здоровья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ие изображения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SzPct val="120000"/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и др.</a:t>
            </a: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7" name="Freeform 113"/>
          <p:cNvSpPr/>
          <p:nvPr/>
        </p:nvSpPr>
        <p:spPr>
          <a:xfrm flipH="1">
            <a:off x="7201800" y="2176560"/>
            <a:ext cx="1236600" cy="452520"/>
          </a:xfrm>
          <a:prstGeom prst="pie">
            <a:avLst/>
          </a:prstGeom>
          <a:noFill/>
          <a:ln w="12600">
            <a:solidFill>
              <a:srgbClr val="db5353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Line 77"/>
          <p:cNvSpPr/>
          <p:nvPr/>
        </p:nvSpPr>
        <p:spPr>
          <a:xfrm flipV="1">
            <a:off x="3692520" y="4187520"/>
            <a:ext cx="2255760" cy="1214280"/>
          </a:xfrm>
          <a:prstGeom prst="line">
            <a:avLst/>
          </a:prstGeom>
          <a:ln w="19080">
            <a:solidFill>
              <a:srgbClr val="00808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Line 78"/>
          <p:cNvSpPr/>
          <p:nvPr/>
        </p:nvSpPr>
        <p:spPr>
          <a:xfrm flipV="1">
            <a:off x="7763040" y="4233600"/>
            <a:ext cx="106200" cy="1127160"/>
          </a:xfrm>
          <a:prstGeom prst="line">
            <a:avLst/>
          </a:prstGeom>
          <a:ln w="19080">
            <a:solidFill>
              <a:srgbClr val="00808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0" name="Line 79"/>
          <p:cNvSpPr/>
          <p:nvPr/>
        </p:nvSpPr>
        <p:spPr>
          <a:xfrm flipV="1">
            <a:off x="5076720" y="4200480"/>
            <a:ext cx="1565280" cy="1214640"/>
          </a:xfrm>
          <a:prstGeom prst="line">
            <a:avLst/>
          </a:prstGeom>
          <a:ln w="19080">
            <a:solidFill>
              <a:srgbClr val="00808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1" name="Line 80"/>
          <p:cNvSpPr/>
          <p:nvPr/>
        </p:nvSpPr>
        <p:spPr>
          <a:xfrm flipV="1">
            <a:off x="6443640" y="4227480"/>
            <a:ext cx="495360" cy="1155600"/>
          </a:xfrm>
          <a:prstGeom prst="line">
            <a:avLst/>
          </a:prstGeom>
          <a:ln w="19080">
            <a:solidFill>
              <a:srgbClr val="008080"/>
            </a:solidFill>
            <a:miter/>
            <a:headEnd len="lg" type="arrow" w="med"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2" name="AutoShape 10"/>
          <p:cNvSpPr/>
          <p:nvPr/>
        </p:nvSpPr>
        <p:spPr>
          <a:xfrm>
            <a:off x="457200" y="152280"/>
            <a:ext cx="8686800" cy="7621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Общая архитектура системы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639720" y="1198440"/>
          <a:ext cx="7755120" cy="5381640"/>
        </p:xfrm>
        <a:graphic>
          <a:graphicData uri="http://schemas.openxmlformats.org/drawingml/2006/table">
            <a:tbl>
              <a:tblPr/>
              <a:tblGrid>
                <a:gridCol w="806400"/>
                <a:gridCol w="5399280"/>
                <a:gridCol w="1549440"/>
              </a:tblGrid>
              <a:tr h="47952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егистратура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78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2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врача поликлиники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722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3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м/с поликлиники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60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4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Приемный покой стационара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57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5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врача стационара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416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6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м/с стационара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212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7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Персонифицированный учет ЛС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04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8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ru-RU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параклинических служб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01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9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руководителя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04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0.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0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Рабочее место медицинского статистика</a:t>
                      </a:r>
                      <a:endParaRPr b="1" i="1" lang="en-US" sz="20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240" rIns="9324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95320"/>
                          <a:tab algn="l" pos="1790640"/>
                          <a:tab algn="l" pos="2685960"/>
                          <a:tab algn="l" pos="3581280"/>
                          <a:tab algn="l" pos="4476600"/>
                          <a:tab algn="l" pos="5372280"/>
                          <a:tab algn="l" pos="6267600"/>
                          <a:tab algn="l" pos="7162920"/>
                          <a:tab algn="l" pos="8058240"/>
                          <a:tab algn="l" pos="8953560"/>
                          <a:tab algn="l" pos="9848880"/>
                          <a:tab algn="l" pos="10744200"/>
                        </a:tabLst>
                      </a:pPr>
                      <a:r>
                        <a:rPr b="0" lang="en-US" sz="2400" spc="-1" strike="noStrike">
                          <a:solidFill>
                            <a:srgbClr val="676a55"/>
                          </a:solidFill>
                          <a:latin typeface="Arial"/>
                        </a:rPr>
                        <a:t>130</a:t>
                      </a:r>
                      <a:endParaRPr b="1" i="1" lang="en-US" sz="2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3240" marR="932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6" name="AutoShape 10"/>
          <p:cNvSpPr/>
          <p:nvPr/>
        </p:nvSpPr>
        <p:spPr>
          <a:xfrm>
            <a:off x="457200" y="152280"/>
            <a:ext cx="8686800" cy="7621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Организация рабочих мест медицинского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ерсонал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059120" cy="69876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Rectangle 4" descr=""/>
          <p:cNvPicPr/>
          <p:nvPr/>
        </p:nvPicPr>
        <p:blipFill>
          <a:blip r:embed="rId1"/>
          <a:stretch/>
        </p:blipFill>
        <p:spPr>
          <a:xfrm>
            <a:off x="7162920" y="5334120"/>
            <a:ext cx="1523880" cy="11509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1981080"/>
            <a:ext cx="8355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дрение стандартов медицинской помощи, повышение доступности амбулаторной медицинской помощи,                  в том числе предоставляемой                                         врачами-специалистами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1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Задача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4d6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20589600">
            <a:off x="102708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ccff99"/>
              </a:gs>
              <a:gs pos="100000">
                <a:srgbClr val="effbf0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44" name="AutoShape 2"/>
          <p:cNvCxnSpPr/>
          <p:nvPr/>
        </p:nvCxnSpPr>
        <p:spPr>
          <a:xfrm>
            <a:off x="6792480" y="1980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5" name="AutoShape 3"/>
          <p:cNvCxnSpPr/>
          <p:nvPr/>
        </p:nvCxnSpPr>
        <p:spPr>
          <a:xfrm>
            <a:off x="6792480" y="19807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6" name="AutoShape 10"/>
          <p:cNvSpPr/>
          <p:nvPr/>
        </p:nvSpPr>
        <p:spPr>
          <a:xfrm>
            <a:off x="324000" y="260280"/>
            <a:ext cx="8424720" cy="108108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bf0"/>
                </a:solidFill>
                <a:latin typeface="Tahoma"/>
              </a:rPr>
              <a:t>РЕГИОНАЛЬНАЯ ПРОГРАММА МОДЕРНИЗАЦИИ ЗДРАВООХРАНЕНИЯ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ffbf0"/>
                </a:solidFill>
                <a:latin typeface="Tahoma"/>
              </a:rPr>
              <a:t>включает в себя три задачи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1258920" y="3817800"/>
            <a:ext cx="7200720" cy="79056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недрение современных информационных систем в здравоохранении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AutoShape 9"/>
          <p:cNvSpPr/>
          <p:nvPr/>
        </p:nvSpPr>
        <p:spPr>
          <a:xfrm>
            <a:off x="1258920" y="5102280"/>
            <a:ext cx="7200720" cy="99360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Внедрение стандартов медицинской помощи, повышение доступности амбулаторной медицинской помощи, в том числе предоставляемой врачами - специалистами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9" name="AutoShape 9"/>
          <p:cNvSpPr/>
          <p:nvPr/>
        </p:nvSpPr>
        <p:spPr>
          <a:xfrm>
            <a:off x="1258920" y="2514600"/>
            <a:ext cx="7200720" cy="790560"/>
          </a:xfrm>
          <a:prstGeom prst="roundRect">
            <a:avLst>
              <a:gd name="adj" fmla="val 1069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Укрепление материально - технической базы медицинских учреждений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5844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250560" y="510228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eorgia"/>
              </a:rPr>
              <a:t>III</a:t>
            </a:r>
            <a:r>
              <a:rPr b="1" lang="ru-RU" sz="2000" spc="-1" strike="noStrike">
                <a:solidFill>
                  <a:srgbClr val="ffcc66"/>
                </a:solidFill>
                <a:latin typeface="Georgia"/>
              </a:rPr>
              <a:t>.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245520" y="3790800"/>
            <a:ext cx="52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eorgia"/>
              </a:rPr>
              <a:t>II</a:t>
            </a:r>
            <a:r>
              <a:rPr b="1" lang="ru-RU" sz="2000" spc="-1" strike="noStrike">
                <a:solidFill>
                  <a:srgbClr val="ffcc66"/>
                </a:solidFill>
                <a:latin typeface="Georgia"/>
              </a:rPr>
              <a:t>.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240120" y="2587680"/>
            <a:ext cx="42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Georgia"/>
              </a:rPr>
              <a:t>I</a:t>
            </a:r>
            <a:r>
              <a:rPr b="1" lang="ru-RU" sz="2000" spc="-1" strike="noStrike">
                <a:solidFill>
                  <a:srgbClr val="ffcc66"/>
                </a:solidFill>
                <a:latin typeface="Georgia"/>
              </a:rPr>
              <a:t>.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303" name="AutoShape 2"/>
          <p:cNvCxnSpPr/>
          <p:nvPr/>
        </p:nvCxnSpPr>
        <p:spPr>
          <a:xfrm>
            <a:off x="688320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04" name="AutoShape 3"/>
          <p:cNvCxnSpPr/>
          <p:nvPr/>
        </p:nvCxnSpPr>
        <p:spPr>
          <a:xfrm>
            <a:off x="688320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5" name="AutoShape 10"/>
          <p:cNvSpPr/>
          <p:nvPr/>
        </p:nvSpPr>
        <p:spPr>
          <a:xfrm>
            <a:off x="1295280" y="122400"/>
            <a:ext cx="7848720" cy="7920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Мероприятия реализации задачи </a:t>
            </a: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III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 «Внедрение стандартов оказания медицинской помощи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385920" y="1676520"/>
            <a:ext cx="8161200" cy="86652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Оказание медицинской помощи в соответствии со стандартами медицинской помощи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AutoShape 9"/>
          <p:cNvSpPr/>
          <p:nvPr/>
        </p:nvSpPr>
        <p:spPr>
          <a:xfrm>
            <a:off x="380880" y="5457960"/>
            <a:ext cx="8169480" cy="79056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Повышение доступности амбулаторной медицинской помощи, в том числе предоставляемой врачами-специалистами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8" name="AutoShape 9"/>
          <p:cNvSpPr/>
          <p:nvPr/>
        </p:nvSpPr>
        <p:spPr>
          <a:xfrm>
            <a:off x="380880" y="2895480"/>
            <a:ext cx="8169480" cy="99072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Поэтапный переход на одноканальную модель финансирова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1700" spc="-1" strike="noStrike">
                <a:solidFill>
                  <a:srgbClr val="676a55"/>
                </a:solidFill>
                <a:latin typeface="Arial"/>
              </a:rPr>
              <a:t>Одноканальная модель финансирования внедрена на территории Калининградской области с 2007 года)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9" name="AutoShape 9"/>
          <p:cNvSpPr/>
          <p:nvPr/>
        </p:nvSpPr>
        <p:spPr>
          <a:xfrm>
            <a:off x="380880" y="4267080"/>
            <a:ext cx="8169480" cy="790560"/>
          </a:xfrm>
          <a:prstGeom prst="roundRect">
            <a:avLst>
              <a:gd name="adj" fmla="val 10699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оведение диспансеризации детей-подростков в возрасте 14 лет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67780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AutoShape 29"/>
          <p:cNvSpPr/>
          <p:nvPr/>
        </p:nvSpPr>
        <p:spPr>
          <a:xfrm>
            <a:off x="4876920" y="5730840"/>
            <a:ext cx="1385640" cy="335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indent="-363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Ф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3" name="AutoShape 29"/>
          <p:cNvSpPr/>
          <p:nvPr/>
        </p:nvSpPr>
        <p:spPr>
          <a:xfrm>
            <a:off x="6813720" y="5761080"/>
            <a:ext cx="1385640" cy="334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Т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AutoShape 30"/>
          <p:cNvSpPr/>
          <p:nvPr/>
        </p:nvSpPr>
        <p:spPr>
          <a:xfrm>
            <a:off x="5638680" y="2743200"/>
            <a:ext cx="143532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Freeform 15"/>
          <p:cNvSpPr/>
          <p:nvPr/>
        </p:nvSpPr>
        <p:spPr>
          <a:xfrm flipH="1" rot="20861400">
            <a:off x="2660040" y="1882800"/>
            <a:ext cx="1236600" cy="61596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db5353"/>
              </a:gs>
            </a:gsLst>
            <a:lin ang="20862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6" name="Freeform 15"/>
          <p:cNvSpPr/>
          <p:nvPr/>
        </p:nvSpPr>
        <p:spPr>
          <a:xfrm flipH="1" flipV="1" rot="11659200">
            <a:off x="5249880" y="1874880"/>
            <a:ext cx="1201680" cy="6202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db5353"/>
              </a:gs>
            </a:gsLst>
            <a:lin ang="9942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AutoShape 30"/>
          <p:cNvSpPr/>
          <p:nvPr/>
        </p:nvSpPr>
        <p:spPr>
          <a:xfrm>
            <a:off x="2070000" y="2743200"/>
            <a:ext cx="143532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AutoShape 30"/>
          <p:cNvSpPr/>
          <p:nvPr/>
        </p:nvSpPr>
        <p:spPr>
          <a:xfrm>
            <a:off x="5562720" y="3809880"/>
            <a:ext cx="2087280" cy="6764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2053,8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AutoShape 10"/>
          <p:cNvSpPr/>
          <p:nvPr/>
        </p:nvSpPr>
        <p:spPr>
          <a:xfrm>
            <a:off x="457200" y="304920"/>
            <a:ext cx="8686800" cy="7920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Объем финансирования задачи </a:t>
            </a: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III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 «Внедрение стандартов оказания медицинской помощи»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(млн.руб.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1" name="AutoShape 29"/>
          <p:cNvSpPr/>
          <p:nvPr/>
        </p:nvSpPr>
        <p:spPr>
          <a:xfrm>
            <a:off x="958680" y="5730840"/>
            <a:ext cx="1386000" cy="335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indent="-363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Ф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AutoShape 29"/>
          <p:cNvSpPr/>
          <p:nvPr/>
        </p:nvSpPr>
        <p:spPr>
          <a:xfrm>
            <a:off x="2895480" y="5761080"/>
            <a:ext cx="1386000" cy="334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Т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3" name="AutoShape 30"/>
          <p:cNvSpPr/>
          <p:nvPr/>
        </p:nvSpPr>
        <p:spPr>
          <a:xfrm>
            <a:off x="3809880" y="1371600"/>
            <a:ext cx="1524240" cy="9144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3 578,6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AutoShape 30"/>
          <p:cNvSpPr/>
          <p:nvPr/>
        </p:nvSpPr>
        <p:spPr>
          <a:xfrm>
            <a:off x="1143000" y="512136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432,7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AutoShape 30"/>
          <p:cNvSpPr/>
          <p:nvPr/>
        </p:nvSpPr>
        <p:spPr>
          <a:xfrm>
            <a:off x="1523880" y="3809880"/>
            <a:ext cx="2087640" cy="6764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1524,8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6" name="AutoShape 30"/>
          <p:cNvSpPr/>
          <p:nvPr/>
        </p:nvSpPr>
        <p:spPr>
          <a:xfrm>
            <a:off x="7010280" y="5130720"/>
            <a:ext cx="106704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1181,4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7" name="AutoShape 30"/>
          <p:cNvSpPr/>
          <p:nvPr/>
        </p:nvSpPr>
        <p:spPr>
          <a:xfrm>
            <a:off x="3048120" y="512136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1092,1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8" name="AutoShape 30"/>
          <p:cNvSpPr/>
          <p:nvPr/>
        </p:nvSpPr>
        <p:spPr>
          <a:xfrm>
            <a:off x="5029200" y="513072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872,4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29" name="Rectangle 4" descr=""/>
          <p:cNvPicPr/>
          <p:nvPr/>
        </p:nvPicPr>
        <p:blipFill>
          <a:blip r:embed="rId1"/>
          <a:stretch/>
        </p:blipFill>
        <p:spPr>
          <a:xfrm>
            <a:off x="2606760" y="3200400"/>
            <a:ext cx="288720" cy="519120"/>
          </a:xfrm>
          <a:prstGeom prst="rect">
            <a:avLst/>
          </a:prstGeom>
          <a:ln w="0">
            <a:noFill/>
          </a:ln>
        </p:spPr>
      </p:pic>
      <p:pic>
        <p:nvPicPr>
          <p:cNvPr id="330" name="Rectangle 4" descr=""/>
          <p:cNvPicPr/>
          <p:nvPr/>
        </p:nvPicPr>
        <p:blipFill>
          <a:blip r:embed="rId2"/>
          <a:stretch/>
        </p:blipFill>
        <p:spPr>
          <a:xfrm>
            <a:off x="6400800" y="320040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5410080" y="451008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7299360" y="4510080"/>
            <a:ext cx="288720" cy="51912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1539720" y="451008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3429000" y="4510080"/>
            <a:ext cx="289080" cy="5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35" name="AutoShape 2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6" name="AutoShape 3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7" name="AutoShape 29"/>
          <p:cNvSpPr/>
          <p:nvPr/>
        </p:nvSpPr>
        <p:spPr>
          <a:xfrm>
            <a:off x="324000" y="189000"/>
            <a:ext cx="8496000" cy="936360"/>
          </a:xfrm>
          <a:prstGeom prst="roundRect">
            <a:avLst>
              <a:gd name="adj" fmla="val 10699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Объем финансирования мероприятий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в 2011 – 2012 годах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(млн.руб.)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324000" y="1469880"/>
          <a:ext cx="8515080" cy="4854600"/>
        </p:xfrm>
        <a:graphic>
          <a:graphicData uri="http://schemas.openxmlformats.org/drawingml/2006/table">
            <a:tbl>
              <a:tblPr/>
              <a:tblGrid>
                <a:gridCol w="4047840"/>
                <a:gridCol w="1495440"/>
                <a:gridCol w="1536840"/>
                <a:gridCol w="1434960"/>
              </a:tblGrid>
              <a:tr h="613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т.ч. за счет средств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ФОМС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ТФОМС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1. Оказание медицинской помощи в соответствии со стандартами медицинской помощи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1481,1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695,3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785,8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1074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2. Проведение диспансеризации детей-подростков в возрасте 14 лет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8,1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8,1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-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1335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3. Повышение доступности амбулаторной медицинской помощи, в том числе предоставляемой врачами-специалистами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654,0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601,7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52,3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45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71600" y="189000"/>
            <a:ext cx="6444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4" descr=""/>
          <p:cNvPicPr/>
          <p:nvPr/>
        </p:nvPicPr>
        <p:blipFill>
          <a:blip r:embed="rId1"/>
          <a:stretch/>
        </p:blipFill>
        <p:spPr>
          <a:xfrm>
            <a:off x="1066680" y="4876920"/>
            <a:ext cx="889200" cy="8967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"/>
          <a:stretch/>
        </p:blipFill>
        <p:spPr>
          <a:xfrm>
            <a:off x="7696080" y="5737320"/>
            <a:ext cx="990720" cy="7477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Оказание медицинской помощи в соответствии со стандартами медицинской помощи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550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е 1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4724280"/>
            <a:ext cx="69836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74160" indent="18720"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f6141"/>
                </a:solidFill>
                <a:latin typeface="Arial"/>
              </a:rPr>
              <a:t>Финансирование мероприятия осуществляется               по дополнительным тарифам для каждого           стандарта медицинской помощи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Rectangl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990720" cy="874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52280" y="100080"/>
            <a:ext cx="89488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ндарты медицинской помощи</a:t>
            </a:r>
            <a:endParaRPr b="1" i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" y="1332000"/>
            <a:ext cx="84265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Стандарт медицинской помощи – унифицированная совокупность медицинских услуг, лекарственных препаратов, медицинских изделий и иных компонентов, применяемых при оказании медицинской помощи гражданину при определенном заболевании (состоянии)</a:t>
            </a: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Стандарт медицинской помощи разрабатывается с учетом номенклатуры медицинских услуг, утверждаемой уполномоченным федеральным органом исполнительной власти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631720" y="6477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AutoShape 30"/>
          <p:cNvSpPr/>
          <p:nvPr/>
        </p:nvSpPr>
        <p:spPr>
          <a:xfrm>
            <a:off x="6324480" y="4114800"/>
            <a:ext cx="2362320" cy="23623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видов диетического и лечебного питания с указанием количества и частоты их предоставле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3" name="AutoShape 30"/>
          <p:cNvSpPr/>
          <p:nvPr/>
        </p:nvSpPr>
        <p:spPr>
          <a:xfrm>
            <a:off x="457200" y="4114800"/>
            <a:ext cx="2743200" cy="23623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лечебных медицинских услуг с указанием количества и частоты их предоставле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Стандарт медицинской помощи включает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6" name="AutoShape 30"/>
          <p:cNvSpPr/>
          <p:nvPr/>
        </p:nvSpPr>
        <p:spPr>
          <a:xfrm>
            <a:off x="3581280" y="5334120"/>
            <a:ext cx="2362320" cy="11430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медицинских изделий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AutoShape 30"/>
          <p:cNvSpPr/>
          <p:nvPr/>
        </p:nvSpPr>
        <p:spPr>
          <a:xfrm>
            <a:off x="6324480" y="1371600"/>
            <a:ext cx="2362320" cy="2514600"/>
          </a:xfrm>
          <a:custGeom>
            <a:avLst/>
            <a:gdLst>
              <a:gd name="textAreaLeft" fmla="*/ 73800 w 2362320"/>
              <a:gd name="textAreaRight" fmla="*/ 2288520 w 2362320"/>
              <a:gd name="textAreaTop" fmla="*/ 73800 h 2514600"/>
              <a:gd name="textAreaBottom" fmla="*/ 2440800 h 2514600"/>
            </a:gdLst>
            <a:ahLst/>
            <a:rect l="textAreaLeft" t="textAreaTop" r="textAreaRight" b="textAreaBottom"/>
            <a:pathLst>
              <a:path w="21600" h="22992">
                <a:moveTo>
                  <a:pt x="2311" y="0"/>
                </a:moveTo>
                <a:arcTo wR="2311" hR="2311" stAng="16200000" swAng="-5400000"/>
                <a:lnTo>
                  <a:pt x="0" y="20681"/>
                </a:lnTo>
                <a:arcTo wR="2311" hR="2311" stAng="10800000" swAng="-5400000"/>
                <a:lnTo>
                  <a:pt x="19289" y="22992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компонентов крови и препаратов крови с указанием количества и частоты их предоставле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AutoShape 30"/>
          <p:cNvSpPr/>
          <p:nvPr/>
        </p:nvSpPr>
        <p:spPr>
          <a:xfrm>
            <a:off x="457200" y="1371600"/>
            <a:ext cx="2743200" cy="25146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диагностических медицинских услуг с указанием количества и частоты их предоставле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AutoShape 30"/>
          <p:cNvSpPr/>
          <p:nvPr/>
        </p:nvSpPr>
        <p:spPr>
          <a:xfrm>
            <a:off x="3581280" y="1371600"/>
            <a:ext cx="2362320" cy="3657600"/>
          </a:xfrm>
          <a:custGeom>
            <a:avLst/>
            <a:gdLst>
              <a:gd name="textAreaLeft" fmla="*/ 73800 w 2362320"/>
              <a:gd name="textAreaRight" fmla="*/ 2288520 w 2362320"/>
              <a:gd name="textAreaTop" fmla="*/ 73800 h 3657600"/>
              <a:gd name="textAreaBottom" fmla="*/ 3583800 h 3657600"/>
            </a:gdLst>
            <a:ahLst/>
            <a:rect l="textAreaLeft" t="textAreaTop" r="textAreaRight" b="textAreaBottom"/>
            <a:pathLst>
              <a:path w="21600" h="33442">
                <a:moveTo>
                  <a:pt x="2311" y="0"/>
                </a:moveTo>
                <a:arcTo wR="2311" hR="2311" stAng="16200000" swAng="-5400000"/>
                <a:lnTo>
                  <a:pt x="0" y="31131"/>
                </a:lnTo>
                <a:arcTo wR="2311" hR="2311" stAng="10800000" swAng="-5400000"/>
                <a:lnTo>
                  <a:pt x="19289" y="33442"/>
                </a:lnTo>
                <a:arcTo wR="2311" hR="2311" stAng="5400000" swAng="-5400000"/>
                <a:lnTo>
                  <a:pt x="21600" y="2311"/>
                </a:lnTo>
                <a:arcTo wR="2311" hR="2311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чень используемых лекарственных препаратов, включенных в перечень необходимых и важнейших лекарственных препаратов, с указанием суточных и курсовых доз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60" name="Rectangle 4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990720" cy="8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914040" y="1447920"/>
            <a:ext cx="770580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системы кровообра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овообраз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рганов дых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рганов пищевар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мочеполов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ервной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асстройства питания и нарушения обмена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тдельных состояний, возникающих в перинатальном периоде, врожденных аномалий и пороков 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AutoShape 10"/>
          <p:cNvSpPr/>
          <p:nvPr/>
        </p:nvSpPr>
        <p:spPr>
          <a:xfrm>
            <a:off x="380880" y="228600"/>
            <a:ext cx="8686800" cy="9144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7192e"/>
                </a:solidFill>
                <a:latin typeface="Tahoma"/>
              </a:rPr>
              <a:t>Внедрение стандартов оказания медицинской помощи будет осуществляться </a:t>
            </a:r>
            <a:endParaRPr b="1" i="1" lang="en-US" sz="21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97192e"/>
                </a:solidFill>
                <a:latin typeface="Tahoma"/>
              </a:rPr>
              <a:t>по основным классам болезней:</a:t>
            </a:r>
            <a:endParaRPr b="1" i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4132440" y="5638680"/>
            <a:ext cx="879120" cy="890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8" name="AutoShape 29"/>
          <p:cNvSpPr/>
          <p:nvPr/>
        </p:nvSpPr>
        <p:spPr>
          <a:xfrm>
            <a:off x="838080" y="2786040"/>
            <a:ext cx="7385040" cy="21668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70 % - фонд оплаты труда   врачей - специалистов       и специалистов со средним медицинским образованием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30 % - медикаменты и расходные материалы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9" name="AutoShape 30"/>
          <p:cNvSpPr/>
          <p:nvPr/>
        </p:nvSpPr>
        <p:spPr>
          <a:xfrm>
            <a:off x="2971800" y="1752480"/>
            <a:ext cx="3124080" cy="45432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ый тариф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орядок использования средств  на внедрение стандартов медицинской помощи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72" name="Rectangle 4" descr=""/>
          <p:cNvPicPr/>
          <p:nvPr/>
        </p:nvPicPr>
        <p:blipFill>
          <a:blip r:embed="rId1"/>
          <a:stretch/>
        </p:blipFill>
        <p:spPr>
          <a:xfrm>
            <a:off x="3852720" y="4724280"/>
            <a:ext cx="1436760" cy="144792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4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218960" cy="100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4" descr=""/>
          <p:cNvPicPr/>
          <p:nvPr/>
        </p:nvPicPr>
        <p:blipFill>
          <a:blip r:embed="rId1"/>
          <a:stretch/>
        </p:blipFill>
        <p:spPr>
          <a:xfrm>
            <a:off x="7696080" y="5737320"/>
            <a:ext cx="990720" cy="747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Поэтапный переход на одноканальную модель финансирования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550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6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е 2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5083200"/>
            <a:ext cx="6933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76a55"/>
                </a:solidFill>
                <a:latin typeface="Arial"/>
              </a:rPr>
              <a:t>Одноканальная модель финансирования внедрена на территории Калининградской области с 2007 года</a:t>
            </a:r>
            <a:endParaRPr b="1" i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4" descr=""/>
          <p:cNvPicPr/>
          <p:nvPr/>
        </p:nvPicPr>
        <p:blipFill>
          <a:blip r:embed="rId1"/>
          <a:stretch/>
        </p:blipFill>
        <p:spPr>
          <a:xfrm>
            <a:off x="7696080" y="5737320"/>
            <a:ext cx="990720" cy="74772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Проведение диспансеризации детей - подростков в возрасте 14 лет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499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е 3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2209680"/>
            <a:ext cx="7669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Укрепление материально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хнической базы медицинских учреждений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Задача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Rectangle 4" descr=""/>
          <p:cNvPicPr/>
          <p:nvPr/>
        </p:nvPicPr>
        <p:blipFill>
          <a:blip r:embed="rId1"/>
          <a:stretch/>
        </p:blipFill>
        <p:spPr>
          <a:xfrm>
            <a:off x="7610400" y="5238720"/>
            <a:ext cx="1152720" cy="13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2" name="AutoShape 29"/>
          <p:cNvSpPr/>
          <p:nvPr/>
        </p:nvSpPr>
        <p:spPr>
          <a:xfrm>
            <a:off x="419040" y="1981080"/>
            <a:ext cx="3748320" cy="28497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Осмотр: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детского уролога -андролог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детского эндокринолог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УЗИ органов мошонки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УЗИ щитовидной железы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3" name="AutoShape 29"/>
          <p:cNvSpPr/>
          <p:nvPr/>
        </p:nvSpPr>
        <p:spPr>
          <a:xfrm>
            <a:off x="4932360" y="2011320"/>
            <a:ext cx="3747960" cy="28497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Осмотр: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детского эндокринолог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акушера - гинеколог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УЗИ внутренних половых органов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УЗИ щитовидной железы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AutoShape 30"/>
          <p:cNvSpPr/>
          <p:nvPr/>
        </p:nvSpPr>
        <p:spPr>
          <a:xfrm>
            <a:off x="5105520" y="1374840"/>
            <a:ext cx="312408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девочек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AutoShape 30"/>
          <p:cNvSpPr/>
          <p:nvPr/>
        </p:nvSpPr>
        <p:spPr>
          <a:xfrm>
            <a:off x="685800" y="4879800"/>
            <a:ext cx="7696080" cy="454320"/>
          </a:xfrm>
          <a:prstGeom prst="roundRect">
            <a:avLst>
              <a:gd name="adj" fmla="val 1069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Стоимость одного законченного случая диспансеризации в 2011 году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7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Диспансеризация подростков в возрасте 14 лет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AutoShape 30"/>
          <p:cNvSpPr/>
          <p:nvPr/>
        </p:nvSpPr>
        <p:spPr>
          <a:xfrm>
            <a:off x="5715000" y="6095880"/>
            <a:ext cx="2087640" cy="4478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729,10 руб.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AutoShape 30"/>
          <p:cNvSpPr/>
          <p:nvPr/>
        </p:nvSpPr>
        <p:spPr>
          <a:xfrm>
            <a:off x="1341360" y="6095880"/>
            <a:ext cx="2087640" cy="4478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632,45 руб.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149560" y="5334120"/>
            <a:ext cx="517320" cy="6858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6492960" y="5334120"/>
            <a:ext cx="517320" cy="68580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30"/>
          <p:cNvSpPr/>
          <p:nvPr/>
        </p:nvSpPr>
        <p:spPr>
          <a:xfrm>
            <a:off x="762120" y="1374840"/>
            <a:ext cx="312408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мальчиков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3000" y="996840"/>
            <a:ext cx="68580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7920" indent="-436320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включает проведение обязательного обследования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4" descr=""/>
          <p:cNvPicPr/>
          <p:nvPr/>
        </p:nvPicPr>
        <p:blipFill>
          <a:blip r:embed="rId1"/>
          <a:stretch/>
        </p:blipFill>
        <p:spPr>
          <a:xfrm>
            <a:off x="533520" y="5715000"/>
            <a:ext cx="1058760" cy="10666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7928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f6141"/>
                </a:solidFill>
                <a:latin typeface="Arial"/>
              </a:rPr>
              <a:t>В рамках проведения диспансеризации возможно проведение дополнительных обследований по показаниям, в объеме не более 30 % от общего количества детей, подлежащих диспансеризации</a:t>
            </a: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Стоимость дополнительного обследования составляет:</a:t>
            </a:r>
            <a:endParaRPr b="1" i="1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                          </a:t>
            </a: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- в 2011 г. – 97,81 руб.</a:t>
            </a:r>
            <a:endParaRPr b="1" i="1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                          </a:t>
            </a: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- в 2012 г. – 105,63 руб.</a:t>
            </a:r>
            <a:endParaRPr b="1" i="1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8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Дополнительное обследование при диспансеризации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0" name="AutoShape 29"/>
          <p:cNvSpPr/>
          <p:nvPr/>
        </p:nvSpPr>
        <p:spPr>
          <a:xfrm>
            <a:off x="419040" y="2954160"/>
            <a:ext cx="3748320" cy="25020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90 % на формирование фонда оплаты труд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10 % - медикаменты, расходные материалы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1" name="AutoShape 29"/>
          <p:cNvSpPr/>
          <p:nvPr/>
        </p:nvSpPr>
        <p:spPr>
          <a:xfrm>
            <a:off x="4932360" y="2984400"/>
            <a:ext cx="3747960" cy="25020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70 % - на формирование фонда оплаты труда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449280" indent="-449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30 % - расходные материалы для проведения лабораторных исследований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AutoShape 30"/>
          <p:cNvSpPr/>
          <p:nvPr/>
        </p:nvSpPr>
        <p:spPr>
          <a:xfrm>
            <a:off x="5105520" y="1874880"/>
            <a:ext cx="3124080" cy="614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ое обследование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3" name="AutoShape 30"/>
          <p:cNvSpPr/>
          <p:nvPr/>
        </p:nvSpPr>
        <p:spPr>
          <a:xfrm>
            <a:off x="762120" y="1874880"/>
            <a:ext cx="3124080" cy="614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спансеризац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7192e"/>
                </a:solidFill>
                <a:latin typeface="Tahoma"/>
              </a:rPr>
              <a:t>Порядок использования средств, полученных от проведения диспансеризации подростков в возрасте 14 лет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06" name="Rectangle 4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1044720" cy="1044360"/>
          </a:xfrm>
          <a:prstGeom prst="rect">
            <a:avLst/>
          </a:prstGeom>
          <a:ln w="0">
            <a:noFill/>
          </a:ln>
        </p:spPr>
      </p:pic>
      <p:pic>
        <p:nvPicPr>
          <p:cNvPr id="407" name="Rectangle 4" descr=""/>
          <p:cNvPicPr/>
          <p:nvPr/>
        </p:nvPicPr>
        <p:blipFill>
          <a:blip r:embed="rId2"/>
          <a:stretch/>
        </p:blipFill>
        <p:spPr>
          <a:xfrm>
            <a:off x="3124080" y="5715000"/>
            <a:ext cx="2971800" cy="108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4" descr=""/>
          <p:cNvPicPr/>
          <p:nvPr/>
        </p:nvPicPr>
        <p:blipFill>
          <a:blip r:embed="rId1"/>
          <a:stretch/>
        </p:blipFill>
        <p:spPr>
          <a:xfrm>
            <a:off x="7696080" y="5737320"/>
            <a:ext cx="990720" cy="7477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Повышение доступности амбулаторной медицинской помощи, в том числе предоставляемой врачами-специалистами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550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0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е 4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2" name="AutoShape 29"/>
          <p:cNvSpPr/>
          <p:nvPr/>
        </p:nvSpPr>
        <p:spPr>
          <a:xfrm>
            <a:off x="419040" y="2367000"/>
            <a:ext cx="3748320" cy="247968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врачам - специалистам – 6500 руб. в месяц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среднему медицинскому персоналу –                2500 руб. в месяц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AutoShape 29"/>
          <p:cNvSpPr/>
          <p:nvPr/>
        </p:nvSpPr>
        <p:spPr>
          <a:xfrm>
            <a:off x="4932360" y="2397240"/>
            <a:ext cx="3747960" cy="247968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врачам - специалистам – 10000 руб. в месяц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3f6141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f6141"/>
                </a:solidFill>
                <a:latin typeface="Arial"/>
              </a:rPr>
              <a:t>среднему медицинскому персоналу –                5000 руб. в месяц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AutoShape 30"/>
          <p:cNvSpPr/>
          <p:nvPr/>
        </p:nvSpPr>
        <p:spPr>
          <a:xfrm>
            <a:off x="5867280" y="1374840"/>
            <a:ext cx="114300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5" name="AutoShape 30"/>
          <p:cNvSpPr/>
          <p:nvPr/>
        </p:nvSpPr>
        <p:spPr>
          <a:xfrm>
            <a:off x="1828800" y="1374840"/>
            <a:ext cx="114300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67780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AutoShape 10"/>
          <p:cNvSpPr/>
          <p:nvPr/>
        </p:nvSpPr>
        <p:spPr>
          <a:xfrm>
            <a:off x="457200" y="228600"/>
            <a:ext cx="8686800" cy="63972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Размер денежных выплат на одну штатную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должность не должен превышать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18" name="Rectangl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1143000" cy="995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7200" y="5410080"/>
            <a:ext cx="8381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0000"/>
                </a:solidFill>
                <a:latin typeface="Arial"/>
              </a:rPr>
              <a:t>Выплаты осуществляются врачам – специалистам и среднему медперсоналу амбулаторно - поликлинического звена, не имеющим федеральных выплат и доплат по родовым сертификатам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1312920"/>
            <a:ext cx="8659800" cy="51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20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6141"/>
                </a:solidFill>
                <a:latin typeface="Arial"/>
              </a:rPr>
              <a:t>Показатели оценки деятельности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f6141"/>
                </a:solidFill>
                <a:latin typeface="Arial"/>
              </a:rPr>
              <a:t>указанных специалистов утверждены приказом Минздравсоцразвитием России                          от 21 февраля 2011 года № 145н                       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  <a:p>
            <a:pPr marL="82440" indent="20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7850"/>
                </a:solidFill>
                <a:latin typeface="Arial"/>
              </a:rPr>
              <a:t>«Об утверждении показателей оценки деятельности специалистов с высшим и средним медицинским образованием, участвующих в реализации мероприятий по повышению доступности амбулаторной помощи»</a:t>
            </a:r>
            <a:endParaRPr b="1" i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2" name="Rectangle 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218960" cy="80640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4" name="Rectangle 4" descr=""/>
          <p:cNvPicPr/>
          <p:nvPr/>
        </p:nvPicPr>
        <p:blipFill>
          <a:blip r:embed="rId2"/>
          <a:stretch/>
        </p:blipFill>
        <p:spPr>
          <a:xfrm>
            <a:off x="5791320" y="5562720"/>
            <a:ext cx="1044360" cy="7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5" name="AutoShape 2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6" name="AutoShape 3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7" name="AutoShape 29"/>
          <p:cNvSpPr/>
          <p:nvPr/>
        </p:nvSpPr>
        <p:spPr>
          <a:xfrm>
            <a:off x="324000" y="189000"/>
            <a:ext cx="8496000" cy="936360"/>
          </a:xfrm>
          <a:prstGeom prst="roundRect">
            <a:avLst>
              <a:gd name="adj" fmla="val 10699"/>
            </a:avLst>
          </a:prstGeom>
          <a:noFill/>
          <a:ln w="9360">
            <a:solidFill>
              <a:srgbClr val="3f6141"/>
            </a:solidFill>
            <a:miter/>
          </a:ln>
          <a:effectLst>
            <a:outerShdw dist="17819" dir="2700000" blurRad="0" rotWithShape="0">
              <a:srgbClr val="2539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06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3f6141"/>
                </a:solidFill>
                <a:latin typeface="Arial"/>
              </a:rPr>
              <a:t>В зависимости от производственной оценки устанавливается следующий размер выплат:</a:t>
            </a:r>
            <a:endParaRPr b="1" i="1" lang="en-US" sz="21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609480" y="76320"/>
            <a:ext cx="744480" cy="1066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0" name=""/>
          <p:cNvGraphicFramePr/>
          <p:nvPr/>
        </p:nvGraphicFramePr>
        <p:xfrm>
          <a:off x="533520" y="1523880"/>
          <a:ext cx="8076960" cy="5034240"/>
        </p:xfrm>
        <a:graphic>
          <a:graphicData uri="http://schemas.openxmlformats.org/drawingml/2006/table">
            <a:tbl>
              <a:tblPr/>
              <a:tblGrid>
                <a:gridCol w="1442880"/>
                <a:gridCol w="1552680"/>
                <a:gridCol w="1573200"/>
                <a:gridCol w="1814400"/>
                <a:gridCol w="1693800"/>
              </a:tblGrid>
              <a:tr h="10378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Результат оценки</a:t>
                      </a: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Times New Roman"/>
                        </a:rPr>
                        <a:t>     (в баллах)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Размер выплаты для специалистов с высшим медицинским образованием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Размер выплаты для специалистов со средним медицинским образованием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13680">
                      <a:solidFill>
                        <a:srgbClr val="3366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2011 год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2012 год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2011 год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cc"/>
                          </a:solidFill>
                          <a:latin typeface="Times New Roman"/>
                          <a:ea typeface="Calibri"/>
                        </a:rPr>
                        <a:t>2012 год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56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80-1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65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100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25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50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75-8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60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923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23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46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65-75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50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77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195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39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50-65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35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54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135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270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Менее 5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66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Arial"/>
                          <a:ea typeface="Calibri"/>
                        </a:rPr>
                        <a:t>0</a:t>
                      </a:r>
                      <a:endParaRPr b="1" i="1" lang="en-US" sz="18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6600"/>
                      </a:solidFill>
                    </a:lnL>
                    <a:lnR w="13680">
                      <a:solidFill>
                        <a:srgbClr val="3366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3366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1236600"/>
            <a:ext cx="865980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281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f6141"/>
                </a:solidFill>
                <a:latin typeface="Arial"/>
              </a:rPr>
              <a:t>Формы отчетности по реализации мероприятий целевой программы Калининградской области «Программа модернизации здравоохранения Калининградской области на 2011 – 2012 годы» утверждены приказом министерства здравоохранения Калининградской области        от 22 июня 2011 года № 148</a:t>
            </a:r>
            <a:endParaRPr b="1" i="1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82440" indent="2811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903638"/>
                </a:solidFill>
                <a:latin typeface="Arial"/>
              </a:rPr>
              <a:t>Срок предоставления установлен ежемесячно до 5-го числа месяца, следующего за отчетным периодом</a:t>
            </a:r>
            <a:endParaRPr b="1" i="1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4502160" y="5830920"/>
            <a:ext cx="819000" cy="75240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2"/>
          <a:stretch/>
        </p:blipFill>
        <p:spPr>
          <a:xfrm>
            <a:off x="3581280" y="5334120"/>
            <a:ext cx="1082880" cy="13046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8688960" y="6491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37" name="Rectangle 4" descr=""/>
          <p:cNvPicPr/>
          <p:nvPr/>
        </p:nvPicPr>
        <p:blipFill>
          <a:blip r:embed="rId1"/>
          <a:stretch/>
        </p:blipFill>
        <p:spPr>
          <a:xfrm>
            <a:off x="3868560" y="5562720"/>
            <a:ext cx="1405080" cy="91260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79280" y="1541520"/>
            <a:ext cx="885672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МУЗ «Багратионовская ЦРБ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МУЗ Балтийского городского округа «Центральная районная больница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МУЗ «Озерская ЦРБ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МУЗ «Ладушкинская городская больница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ОГСУЗ «Областная наркологическая больница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МУЗ «Зеленоградская ЦРБ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ГУЗ «Областной противотуберкулезный диспансер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ОГСУ «Инфекционная больница Калининградской области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3f61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f6141"/>
                </a:solidFill>
                <a:latin typeface="Arial"/>
              </a:rPr>
              <a:t>ГУЗ ОТ «Бюро судебно-медицинской экспертизы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AutoShape 10"/>
          <p:cNvSpPr/>
          <p:nvPr/>
        </p:nvSpPr>
        <p:spPr>
          <a:xfrm>
            <a:off x="457200" y="304920"/>
            <a:ext cx="8686800" cy="7920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еречень учреждений, в которых отсутствуют ответственные за проведение мероприятий 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о модернизации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3172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 rot="20589600">
            <a:off x="45720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89b38c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34880" y="1752480"/>
            <a:ext cx="8274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19040" indent="-419040">
              <a:lnSpc>
                <a:spcPct val="100000"/>
              </a:lnSpc>
              <a:spcBef>
                <a:spcPts val="550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6a55"/>
                </a:solidFill>
                <a:latin typeface="Arial"/>
              </a:rPr>
              <a:t>Комиссия по реализации Программы модернизации под председательством Губернатора Калининградской области  Н.Н. Цуканов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249"/>
              </a:spcBef>
              <a:buClr>
                <a:srgbClr val="676a55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6a55"/>
                </a:solidFill>
                <a:latin typeface="Arial"/>
              </a:rPr>
              <a:t>1.  Рабочая группа под руководством Заместителя Председателя Правительства Калининградской области В.Э. Смильгин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0000"/>
              </a:solidFill>
              <a:latin typeface="Arial"/>
            </a:endParaRPr>
          </a:p>
          <a:p>
            <a:pPr marL="419040" indent="-4190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76a55"/>
                </a:solidFill>
                <a:latin typeface="Arial"/>
              </a:rPr>
              <a:t>2.  Экспертный совет по закупке медицинского оборудования под руководством министра здравоохранения Калининградской области             А.Б. Выговского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AutoShape 10"/>
          <p:cNvSpPr/>
          <p:nvPr/>
        </p:nvSpPr>
        <p:spPr>
          <a:xfrm>
            <a:off x="457200" y="152280"/>
            <a:ext cx="8686800" cy="79236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Arial"/>
              </a:rPr>
              <a:t>Контроль за реализацией Программы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Arial"/>
              </a:rPr>
              <a:t>осуществляют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4" name="Rectangl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8631720" y="6453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46" name="Rectangle 4" descr=""/>
          <p:cNvPicPr/>
          <p:nvPr/>
        </p:nvPicPr>
        <p:blipFill>
          <a:blip r:embed="rId2"/>
          <a:stretch/>
        </p:blipFill>
        <p:spPr>
          <a:xfrm>
            <a:off x="3962520" y="5675400"/>
            <a:ext cx="103032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 rot="20589600">
            <a:off x="111744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72a376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cxnSp>
        <p:nvCxnSpPr>
          <p:cNvPr id="158" name="AutoShape 2"/>
          <p:cNvCxnSpPr/>
          <p:nvPr/>
        </p:nvCxnSpPr>
        <p:spPr>
          <a:xfrm>
            <a:off x="688320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AutoShape 3"/>
          <p:cNvCxnSpPr/>
          <p:nvPr/>
        </p:nvCxnSpPr>
        <p:spPr>
          <a:xfrm>
            <a:off x="688320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0" name="AutoShape 10"/>
          <p:cNvSpPr/>
          <p:nvPr/>
        </p:nvSpPr>
        <p:spPr>
          <a:xfrm>
            <a:off x="304920" y="152280"/>
            <a:ext cx="8762760" cy="79236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Мероприятия реализации задачи </a:t>
            </a: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I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 «</a:t>
            </a:r>
            <a:r>
              <a:rPr b="1" lang="ru-RU" sz="2200" spc="-1" strike="noStrike">
                <a:solidFill>
                  <a:srgbClr val="97192e"/>
                </a:solidFill>
                <a:latin typeface="Arial"/>
              </a:rPr>
              <a:t>Укрепление материально - технической базы медицинских учреждений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»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>
            <a:off x="919080" y="1828800"/>
            <a:ext cx="7309080" cy="866880"/>
          </a:xfrm>
          <a:prstGeom prst="roundRect">
            <a:avLst>
              <a:gd name="adj" fmla="val 10699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Проведение капитального ремонта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AutoShape 9"/>
          <p:cNvSpPr/>
          <p:nvPr/>
        </p:nvSpPr>
        <p:spPr>
          <a:xfrm>
            <a:off x="914400" y="3276720"/>
            <a:ext cx="7315200" cy="838080"/>
          </a:xfrm>
          <a:prstGeom prst="roundRect">
            <a:avLst>
              <a:gd name="adj" fmla="val 10699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Проведение текущего ремонта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AutoShape 9"/>
          <p:cNvSpPr/>
          <p:nvPr/>
        </p:nvSpPr>
        <p:spPr>
          <a:xfrm>
            <a:off x="914400" y="4619520"/>
            <a:ext cx="7315200" cy="790560"/>
          </a:xfrm>
          <a:prstGeom prst="roundRect">
            <a:avLst>
              <a:gd name="adj" fmla="val 10699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62080" indent="-262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Приобретение медицинского оборудования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5844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73152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76a55"/>
                </a:solidFill>
                <a:latin typeface="Arial"/>
              </a:rPr>
              <a:t>СПАСИБО ЗА ВНИМАНИЕ 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3657600" y="3581280"/>
            <a:ext cx="1828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rot="20589600">
            <a:off x="235080" y="2212920"/>
            <a:ext cx="8800920" cy="4240440"/>
          </a:xfrm>
          <a:prstGeom prst="ellipse">
            <a:avLst/>
          </a:prstGeom>
          <a:gradFill rotWithShape="0">
            <a:gsLst>
              <a:gs pos="0">
                <a:srgbClr val="b0ccb0"/>
              </a:gs>
              <a:gs pos="100000">
                <a:srgbClr val="eaebde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AutoShape 29"/>
          <p:cNvSpPr/>
          <p:nvPr/>
        </p:nvSpPr>
        <p:spPr>
          <a:xfrm>
            <a:off x="4876920" y="5730840"/>
            <a:ext cx="1385640" cy="335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indent="-363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Ф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7" name="AutoShape 30"/>
          <p:cNvSpPr/>
          <p:nvPr/>
        </p:nvSpPr>
        <p:spPr>
          <a:xfrm>
            <a:off x="5638680" y="2743200"/>
            <a:ext cx="143532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8" name="Freeform 15"/>
          <p:cNvSpPr/>
          <p:nvPr/>
        </p:nvSpPr>
        <p:spPr>
          <a:xfrm flipH="1" rot="20861400">
            <a:off x="2660040" y="1882800"/>
            <a:ext cx="1236600" cy="61596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db5353"/>
              </a:gs>
            </a:gsLst>
            <a:lin ang="20862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9" name="Freeform 15"/>
          <p:cNvSpPr/>
          <p:nvPr/>
        </p:nvSpPr>
        <p:spPr>
          <a:xfrm flipH="1" flipV="1" rot="11659200">
            <a:off x="5249880" y="1874880"/>
            <a:ext cx="1201680" cy="620280"/>
          </a:xfrm>
          <a:prstGeom prst="pie">
            <a:avLst/>
          </a:prstGeom>
          <a:gradFill rotWithShape="0">
            <a:gsLst>
              <a:gs pos="0">
                <a:srgbClr val="ffffcc"/>
              </a:gs>
              <a:gs pos="100000">
                <a:srgbClr val="db5353"/>
              </a:gs>
            </a:gsLst>
            <a:lin ang="9942000"/>
          </a:gra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AutoShape 30"/>
          <p:cNvSpPr/>
          <p:nvPr/>
        </p:nvSpPr>
        <p:spPr>
          <a:xfrm>
            <a:off x="2070000" y="2743200"/>
            <a:ext cx="1435320" cy="4539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1 г.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1" name="AutoShape 30"/>
          <p:cNvSpPr/>
          <p:nvPr/>
        </p:nvSpPr>
        <p:spPr>
          <a:xfrm>
            <a:off x="5562720" y="3809880"/>
            <a:ext cx="2087280" cy="6764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515,5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68248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3" name="AutoShape 10"/>
          <p:cNvSpPr/>
          <p:nvPr/>
        </p:nvSpPr>
        <p:spPr>
          <a:xfrm>
            <a:off x="304920" y="274680"/>
            <a:ext cx="8686800" cy="7920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Объем финансирования задачи </a:t>
            </a: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I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 «</a:t>
            </a:r>
            <a:r>
              <a:rPr b="1" lang="ru-RU" sz="2200" spc="-1" strike="noStrike">
                <a:solidFill>
                  <a:srgbClr val="97192e"/>
                </a:solidFill>
                <a:latin typeface="Arial"/>
              </a:rPr>
              <a:t>Укрепление материально</a:t>
            </a:r>
            <a:r>
              <a:rPr b="1" lang="en-US" sz="2200" spc="-1" strike="noStrike">
                <a:solidFill>
                  <a:srgbClr val="97192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7192e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97192e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97192e"/>
                </a:solidFill>
                <a:latin typeface="Arial"/>
              </a:rPr>
              <a:t>технической базы медицинских учреждений</a:t>
            </a:r>
            <a:r>
              <a:rPr b="1" lang="ru-RU" sz="2200" spc="-1" strike="noStrike">
                <a:solidFill>
                  <a:srgbClr val="97192e"/>
                </a:solidFill>
                <a:latin typeface="Tahoma"/>
              </a:rPr>
              <a:t>» (млн.руб.)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AutoShape 29"/>
          <p:cNvSpPr/>
          <p:nvPr/>
        </p:nvSpPr>
        <p:spPr>
          <a:xfrm>
            <a:off x="958680" y="5730840"/>
            <a:ext cx="1386000" cy="33516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3600" indent="-363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ФФОМС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AutoShape 29"/>
          <p:cNvSpPr/>
          <p:nvPr/>
        </p:nvSpPr>
        <p:spPr>
          <a:xfrm>
            <a:off x="7010280" y="5791320"/>
            <a:ext cx="1219320" cy="60948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обл. бюджет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AutoShape 30"/>
          <p:cNvSpPr/>
          <p:nvPr/>
        </p:nvSpPr>
        <p:spPr>
          <a:xfrm>
            <a:off x="3809880" y="1371600"/>
            <a:ext cx="1524240" cy="9144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1561,6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7" name="AutoShape 30"/>
          <p:cNvSpPr/>
          <p:nvPr/>
        </p:nvSpPr>
        <p:spPr>
          <a:xfrm>
            <a:off x="1143000" y="512136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904,2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AutoShape 30"/>
          <p:cNvSpPr/>
          <p:nvPr/>
        </p:nvSpPr>
        <p:spPr>
          <a:xfrm>
            <a:off x="1523880" y="3809880"/>
            <a:ext cx="2087640" cy="67644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50000">
                <a:srgbClr val="ccff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1046,1</a:t>
            </a:r>
            <a:endParaRPr b="1" i="1" lang="en-US" sz="25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AutoShape 30"/>
          <p:cNvSpPr/>
          <p:nvPr/>
        </p:nvSpPr>
        <p:spPr>
          <a:xfrm>
            <a:off x="7010280" y="5130720"/>
            <a:ext cx="106704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19,5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AutoShape 30"/>
          <p:cNvSpPr/>
          <p:nvPr/>
        </p:nvSpPr>
        <p:spPr>
          <a:xfrm>
            <a:off x="3048120" y="512136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141,9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AutoShape 30"/>
          <p:cNvSpPr/>
          <p:nvPr/>
        </p:nvSpPr>
        <p:spPr>
          <a:xfrm>
            <a:off x="5029200" y="5130720"/>
            <a:ext cx="1066680" cy="52380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9fbf9f"/>
              </a:gs>
              <a:gs pos="50000">
                <a:srgbClr val="ccffcc"/>
              </a:gs>
              <a:gs pos="100000">
                <a:srgbClr val="9fbf9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db5353"/>
                </a:solidFill>
                <a:latin typeface="Tahoma"/>
              </a:rPr>
              <a:t>496,0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82" name="Rectangle 4" descr=""/>
          <p:cNvPicPr/>
          <p:nvPr/>
        </p:nvPicPr>
        <p:blipFill>
          <a:blip r:embed="rId1"/>
          <a:stretch/>
        </p:blipFill>
        <p:spPr>
          <a:xfrm>
            <a:off x="2606760" y="3200400"/>
            <a:ext cx="288720" cy="519120"/>
          </a:xfrm>
          <a:prstGeom prst="rect">
            <a:avLst/>
          </a:prstGeom>
          <a:ln w="0">
            <a:noFill/>
          </a:ln>
        </p:spPr>
      </p:pic>
      <p:pic>
        <p:nvPicPr>
          <p:cNvPr id="183" name="Rectangle 4" descr=""/>
          <p:cNvPicPr/>
          <p:nvPr/>
        </p:nvPicPr>
        <p:blipFill>
          <a:blip r:embed="rId2"/>
          <a:stretch/>
        </p:blipFill>
        <p:spPr>
          <a:xfrm>
            <a:off x="6400800" y="320040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410080" y="451008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7299360" y="4510080"/>
            <a:ext cx="288720" cy="519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1539720" y="4510080"/>
            <a:ext cx="289080" cy="5191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3429000" y="4510080"/>
            <a:ext cx="289080" cy="51912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29"/>
          <p:cNvSpPr/>
          <p:nvPr/>
        </p:nvSpPr>
        <p:spPr>
          <a:xfrm>
            <a:off x="3048120" y="5791320"/>
            <a:ext cx="1218960" cy="609480"/>
          </a:xfrm>
          <a:prstGeom prst="roundRect">
            <a:avLst>
              <a:gd name="adj" fmla="val 10699"/>
            </a:avLst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f6141"/>
                </a:solidFill>
                <a:latin typeface="Arial"/>
              </a:rPr>
              <a:t>обл. бюджет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9" name="AutoShape 2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" name="AutoShape 3"/>
          <p:cNvCxnSpPr/>
          <p:nvPr/>
        </p:nvCxnSpPr>
        <p:spPr>
          <a:xfrm>
            <a:off x="6792480" y="21301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" name="AutoShape 29"/>
          <p:cNvSpPr/>
          <p:nvPr/>
        </p:nvSpPr>
        <p:spPr>
          <a:xfrm>
            <a:off x="324000" y="189000"/>
            <a:ext cx="8496000" cy="936360"/>
          </a:xfrm>
          <a:prstGeom prst="roundRect">
            <a:avLst>
              <a:gd name="adj" fmla="val 10699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Объем финансирования мероприятий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задачи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в 2011 – 2012 годах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  <a:p>
            <a:pPr marL="3556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3f6141"/>
                </a:solidFill>
                <a:latin typeface="Arial"/>
              </a:rPr>
              <a:t>(млн.руб.)</a:t>
            </a:r>
            <a:endParaRPr b="1" i="1" lang="en-US" sz="19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799840" y="649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324000" y="1424160"/>
          <a:ext cx="8515080" cy="4671720"/>
        </p:xfrm>
        <a:graphic>
          <a:graphicData uri="http://schemas.openxmlformats.org/drawingml/2006/table">
            <a:tbl>
              <a:tblPr/>
              <a:tblGrid>
                <a:gridCol w="4047840"/>
                <a:gridCol w="1495440"/>
                <a:gridCol w="1536840"/>
                <a:gridCol w="1434960"/>
              </a:tblGrid>
              <a:tr h="460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сего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в т.ч. за счет средств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13680">
                      <a:solidFill>
                        <a:srgbClr val="2a5400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850"/>
                        </a:spcBef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ФФОМС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cc"/>
                          </a:solidFill>
                          <a:latin typeface="Tahoma"/>
                        </a:rPr>
                        <a:t>областного бюджета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1. Проведение капитального ремонта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490,1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407,5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82,6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113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2. Проведение текущего ремонта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2,6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-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2,6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950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262080" indent="-26208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3. Приобретение медицинского оборудования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1068,9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992,6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2a5400"/>
                          </a:solidFill>
                          <a:latin typeface="Tahoma"/>
                        </a:rPr>
                        <a:t>76,3</a:t>
                      </a: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4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5760">
                      <a:solidFill>
                        <a:srgbClr val="2a5400"/>
                      </a:solidFill>
                    </a:lnB>
                    <a:solidFill>
                      <a:srgbClr val="c4d6be">
                        <a:alpha val="50000"/>
                      </a:srgbClr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576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700" spc="-1" strike="noStrike">
                        <a:solidFill>
                          <a:srgbClr val="ff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2a5400"/>
                      </a:solidFill>
                    </a:lnL>
                    <a:lnR w="13680">
                      <a:solidFill>
                        <a:srgbClr val="2a5400"/>
                      </a:solidFill>
                    </a:lnR>
                    <a:lnT w="5760">
                      <a:solidFill>
                        <a:srgbClr val="2a5400"/>
                      </a:solidFill>
                    </a:lnT>
                    <a:lnB w="13680">
                      <a:solidFill>
                        <a:srgbClr val="2a5400"/>
                      </a:solidFill>
                    </a:lnB>
                    <a:solidFill>
                      <a:srgbClr val="3366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471600" y="189000"/>
            <a:ext cx="6444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9280" y="1981080"/>
            <a:ext cx="782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052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97192e"/>
                </a:solidFill>
                <a:latin typeface="Arial"/>
              </a:rPr>
              <a:t>Проведение капитального и текущего ремонтов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20520">
              <a:lnSpc>
                <a:spcPct val="80000"/>
              </a:lnSpc>
              <a:spcBef>
                <a:spcPts val="550"/>
              </a:spcBef>
              <a:buClr>
                <a:srgbClr val="9719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Подзаголовок 2"/>
          <p:cNvSpPr/>
          <p:nvPr/>
        </p:nvSpPr>
        <p:spPr>
          <a:xfrm>
            <a:off x="533520" y="1143000"/>
            <a:ext cx="4495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Мероприятия 1, 2: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7" name="Rectangle 4" descr=""/>
          <p:cNvPicPr/>
          <p:nvPr/>
        </p:nvPicPr>
        <p:blipFill>
          <a:blip r:embed="rId1"/>
          <a:stretch/>
        </p:blipFill>
        <p:spPr>
          <a:xfrm>
            <a:off x="8086680" y="5638680"/>
            <a:ext cx="744480" cy="84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0"/>
          <p:cNvSpPr/>
          <p:nvPr/>
        </p:nvSpPr>
        <p:spPr>
          <a:xfrm>
            <a:off x="457200" y="304920"/>
            <a:ext cx="8686800" cy="79200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99" name="Rectangle 4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1000080" cy="1143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20589600">
            <a:off x="457200" y="2095200"/>
            <a:ext cx="7991640" cy="4240080"/>
          </a:xfrm>
          <a:prstGeom prst="ellipse">
            <a:avLst/>
          </a:prstGeom>
          <a:gradFill rotWithShape="0">
            <a:gsLst>
              <a:gs pos="0">
                <a:srgbClr val="89b38c"/>
              </a:gs>
              <a:gs pos="100000">
                <a:srgbClr val="def1f2">
                  <a:alpha val="9019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85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7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1981080"/>
            <a:ext cx="885672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208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В реализации мероприятий участвуют </a:t>
            </a:r>
            <a:r>
              <a:rPr b="1" lang="en-US" sz="2000" spc="-1" strike="noStrike">
                <a:solidFill>
                  <a:srgbClr val="72a376"/>
                </a:solidFill>
                <a:latin typeface="Arial"/>
              </a:rPr>
              <a:t>27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 учреждений здравоохранения (общее количество объектов, подлежащих ремонту – </a:t>
            </a:r>
            <a:r>
              <a:rPr b="1" lang="en-US" sz="2000" spc="-1" strike="noStrike">
                <a:solidFill>
                  <a:srgbClr val="72a376"/>
                </a:solidFill>
                <a:latin typeface="Arial"/>
              </a:rPr>
              <a:t>59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).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Объем финансирования в 2011 году составит:                         ФФОМС - </a:t>
            </a:r>
            <a:r>
              <a:rPr b="1" lang="en-US" sz="2000" spc="-1" strike="noStrike">
                <a:solidFill>
                  <a:srgbClr val="db5353"/>
                </a:solidFill>
                <a:latin typeface="Arial"/>
              </a:rPr>
              <a:t>212985,3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 тыс.руб.,                                                          бюджета субъекта – </a:t>
            </a:r>
            <a:r>
              <a:rPr b="1" lang="en-US" sz="2000" spc="-1" strike="noStrike">
                <a:solidFill>
                  <a:srgbClr val="db5353"/>
                </a:solidFill>
                <a:latin typeface="Arial"/>
              </a:rPr>
              <a:t>75008,9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 тыс.руб.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499"/>
              </a:spcBef>
              <a:buClr>
                <a:srgbClr val="3f6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Объявлено аукционов в электронной форме на выполнение работ по </a:t>
            </a:r>
            <a:r>
              <a:rPr b="1" lang="en-US" sz="2000" spc="-1" strike="noStrike">
                <a:solidFill>
                  <a:srgbClr val="72a376"/>
                </a:solidFill>
                <a:latin typeface="Arial"/>
              </a:rPr>
              <a:t>44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 объектам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201"/>
              </a:spcBef>
              <a:buClr>
                <a:srgbClr val="3f6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Arial"/>
            </a:endParaRPr>
          </a:p>
          <a:p>
            <a:pPr marL="262080" indent="-260640">
              <a:lnSpc>
                <a:spcPct val="100000"/>
              </a:lnSpc>
              <a:spcBef>
                <a:spcPts val="499"/>
              </a:spcBef>
              <a:buClr>
                <a:srgbClr val="3f614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По состоянию на 25.06.2011 открытые аукционы состоялись на проведение капитальных ремонтов по </a:t>
            </a:r>
            <a:r>
              <a:rPr b="1" lang="en-US" sz="2000" spc="-1" strike="noStrike">
                <a:solidFill>
                  <a:srgbClr val="72a376"/>
                </a:solidFill>
                <a:latin typeface="Arial"/>
              </a:rPr>
              <a:t>9 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объектам, по </a:t>
            </a:r>
            <a:r>
              <a:rPr b="1" lang="en-US" sz="2000" spc="-1" strike="noStrike">
                <a:solidFill>
                  <a:srgbClr val="72a376"/>
                </a:solidFill>
                <a:latin typeface="Arial"/>
              </a:rPr>
              <a:t>3-м</a:t>
            </a:r>
            <a:r>
              <a:rPr b="1" lang="en-US" sz="2000" spc="-1" strike="noStrike">
                <a:solidFill>
                  <a:srgbClr val="3f6141"/>
                </a:solidFill>
                <a:latin typeface="Arial"/>
              </a:rPr>
              <a:t> объектам аукционы не состоялись </a:t>
            </a:r>
            <a:endParaRPr b="1" i="1" lang="en-US" sz="2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75844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Rectangle 4" descr=""/>
          <p:cNvPicPr/>
          <p:nvPr/>
        </p:nvPicPr>
        <p:blipFill>
          <a:blip r:embed="rId1"/>
          <a:stretch/>
        </p:blipFill>
        <p:spPr>
          <a:xfrm>
            <a:off x="228600" y="289080"/>
            <a:ext cx="990720" cy="8715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35000" y="1236600"/>
            <a:ext cx="8856720" cy="51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помещений операционного блок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 "Озерская центральная больница" с экономией 589056 рублей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помещения ФАПа пос. Заливно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МАУЗ  "Гурьевская  центральная районная больница" муниципального образования "Гурьевский район"  Калининградской области с экономией 191820 рублей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помещения ФАПа пос. Малое Васильково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УЗ  "Гурьевская  центральная районная больница" муниципального образования "Гурьевский район"  Калининградской области с экономией 23636 рублей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терапевтического отделения, электромонтажные работы терапевтического отделения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   "Центральная районная  больница" (г.Гвардейск) с экономией 7827 рублей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помещений женской консультац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   "Центральная районная  больница" (г.Гвардейск)  единственный участник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кровли поликлиник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   "Центральная районная  больница" (г.Гвардейск)  с экономией 18360 рублей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ФАПа в п.Победы №17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 "Багратионовская центральная районная больница" единственный участник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 ФАПа пос.Южны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 "Багратионовская центральная районная больница" единственный участник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  <a:p>
            <a:pPr lvl="1" marL="56052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питальный ремонт  Корневской амбулатори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З "Багратионовская центральная районная больница" единственный участник</a:t>
            </a:r>
            <a:endParaRPr b="1" i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AutoShape 10"/>
          <p:cNvSpPr/>
          <p:nvPr/>
        </p:nvSpPr>
        <p:spPr>
          <a:xfrm>
            <a:off x="457200" y="152280"/>
            <a:ext cx="8686800" cy="792360"/>
          </a:xfrm>
          <a:prstGeom prst="roundRect">
            <a:avLst>
              <a:gd name="adj" fmla="val 1069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Перечень объектов, по которым состоялся аукцион 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7192e"/>
                </a:solidFill>
                <a:latin typeface="Tahoma"/>
              </a:rPr>
              <a:t>на проведение капитального ремонта</a:t>
            </a:r>
            <a:endParaRPr b="1" i="1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758440" y="645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i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vanowa</cp:lastModifiedBy>
  <dcterms:modified xsi:type="dcterms:W3CDTF">2011-06-28T15:33:45Z</dcterms:modified>
  <cp:revision>59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